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C7B9-BE09-4600-BB2F-C5749C942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0AA9-8F19-4023-92F7-2671D5B2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CDA1-F718-45D3-9AD2-CC3030E4A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42C5-0A9A-480A-89FE-E9F65B4C3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BB76-F4FB-49E5-8706-8460DADF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5022-71D4-4C18-9B70-5E5994A2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AA65-08E0-4645-9284-B4220E48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AC5D-C317-4823-A8A9-113BA242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7074-BA32-4AB5-9E95-EFC2A984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9941-4CEF-4811-A31B-E7D58366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9BCA-80A3-4A8B-BCB7-83AC4092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DB71-2D8A-4F68-B665-6AD564A3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D840-A90F-4ADA-A04F-07923FF42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324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1, simp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 flipH="1" flipV="1">
            <a:off x="323640" y="1341000"/>
            <a:ext cx="1368360" cy="158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8280" y="34308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01720" y="343080"/>
            <a:ext cx="470160" cy="2590560"/>
          </a:xfrm>
          <a:custGeom>
            <a:avLst/>
            <a:gdLst/>
            <a:ahLst/>
            <a:rect l="l" t="t" r="r" b="b"/>
            <a:pathLst>
              <a:path w="296" h="1632">
                <a:moveTo>
                  <a:pt x="296" y="0"/>
                </a:moveTo>
                <a:lnTo>
                  <a:pt x="0" y="1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3080" y="36828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44520" y="36828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3080" y="1384200"/>
            <a:ext cx="2286000" cy="1028880"/>
          </a:xfrm>
          <a:custGeom>
            <a:avLst/>
            <a:gdLst/>
            <a:ahLst/>
            <a:rect l="l" t="t" r="r" b="b"/>
            <a:pathLst>
              <a:path w="1440" h="648">
                <a:moveTo>
                  <a:pt x="1440" y="0"/>
                </a:moveTo>
                <a:lnTo>
                  <a:pt x="0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3240" y="270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35200" y="1873080"/>
            <a:ext cx="19080" cy="1041480"/>
          </a:xfrm>
          <a:custGeom>
            <a:avLst/>
            <a:gdLst/>
            <a:ahLst/>
            <a:rect l="l" t="t" r="r" b="b"/>
            <a:pathLst>
              <a:path w="12" h="656">
                <a:moveTo>
                  <a:pt x="12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0280" y="2413080"/>
            <a:ext cx="1815840" cy="514440"/>
          </a:xfrm>
          <a:custGeom>
            <a:avLst/>
            <a:gdLst/>
            <a:ahLst/>
            <a:rect l="l" t="t" r="r" b="b"/>
            <a:pathLst>
              <a:path w="1144" h="324">
                <a:moveTo>
                  <a:pt x="1144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200" y="1879560"/>
            <a:ext cx="1854000" cy="507960"/>
          </a:xfrm>
          <a:custGeom>
            <a:avLst/>
            <a:gdLst/>
            <a:ahLst/>
            <a:rect l="l" t="t" r="r" b="b"/>
            <a:pathLst>
              <a:path w="1168" h="320">
                <a:moveTo>
                  <a:pt x="0" y="320"/>
                </a:moveTo>
                <a:lnTo>
                  <a:pt x="116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6-26T09:14:36Z</dcterms:modified>
  <cp:revision>62</cp:revision>
  <dc:subject/>
  <dc:title>Slide 1</dc:title>
</cp:coreProperties>
</file>