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654A-3A25-442F-A0C6-3552F4489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t turn_info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alyse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stcases</a:t>
            </a:r>
            <a:br>
              <a:rPr sz="2400"/>
            </a:b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in test/algorithms/overlay/get_turn_info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356000" y="3860280"/>
            <a:ext cx="478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h at the same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or one collin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635280" y="155520"/>
            <a:ext cx="12240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Note: 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might also be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57480" y="109872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19040" y="1209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62680" y="1090440"/>
            <a:ext cx="696960" cy="52740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29280" y="1158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1912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71680" y="1700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5640" y="3962520"/>
            <a:ext cx="1703520" cy="241128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67360" y="4606920"/>
            <a:ext cx="69696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5680" y="45813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70400" y="42037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65400" y="5791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29280" y="4718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459900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35680" y="5187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9836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130440" y="4561920"/>
            <a:ext cx="351360" cy="361080"/>
            <a:chOff x="6130440" y="4561920"/>
            <a:chExt cx="351360" cy="361080"/>
          </a:xfrm>
        </p:grpSpPr>
        <p:sp>
          <p:nvSpPr>
            <p:cNvPr id="387" name=""/>
            <p:cNvSpPr/>
            <p:nvPr/>
          </p:nvSpPr>
          <p:spPr>
            <a:xfrm rot="19936800">
              <a:off x="6126840" y="470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072200">
              <a:off x="6134760" y="4705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5122440" y="4005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08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8000" y="424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00960" y="4254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42000" y="3987720"/>
            <a:ext cx="14400" cy="822240"/>
          </a:xfrm>
          <a:custGeom>
            <a:avLst/>
            <a:gdLst/>
            <a:ahLst/>
            <a:rect l="l" t="t" r="r" b="b"/>
            <a:pathLst>
              <a:path w="9" h="518">
                <a:moveTo>
                  <a:pt x="9" y="51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41360" y="130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54240" y="1089000"/>
            <a:ext cx="615960" cy="533520"/>
          </a:xfrm>
          <a:custGeom>
            <a:avLst/>
            <a:gdLst/>
            <a:ahLst/>
            <a:rect l="l" t="t" r="r" b="b"/>
            <a:pathLst>
              <a:path w="388" h="336">
                <a:moveTo>
                  <a:pt x="52" y="336"/>
                </a:moveTo>
                <a:lnTo>
                  <a:pt x="388" y="180"/>
                </a:lnTo>
                <a:lnTo>
                  <a:pt x="0" y="0"/>
                </a:lnTo>
                <a:lnTo>
                  <a:pt x="52" y="3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40440" y="129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97600" y="1082520"/>
            <a:ext cx="565200" cy="552600"/>
          </a:xfrm>
          <a:custGeom>
            <a:avLst/>
            <a:gdLst/>
            <a:ahLst/>
            <a:rect l="l" t="t" r="r" b="b"/>
            <a:pathLst>
              <a:path w="356" h="348">
                <a:moveTo>
                  <a:pt x="32" y="348"/>
                </a:moveTo>
                <a:lnTo>
                  <a:pt x="356" y="176"/>
                </a:lnTo>
                <a:lnTo>
                  <a:pt x="0" y="0"/>
                </a:lnTo>
                <a:lnTo>
                  <a:pt x="32" y="3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326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37320" y="1071720"/>
            <a:ext cx="61452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5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8480" y="1638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60880" y="1663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562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6596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076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6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57480" y="4599000"/>
            <a:ext cx="622080" cy="1001880"/>
          </a:xfrm>
          <a:custGeom>
            <a:avLst/>
            <a:gdLst/>
            <a:ahLst/>
            <a:rect l="l" t="t" r="r" b="b"/>
            <a:pathLst>
              <a:path w="392" h="631">
                <a:moveTo>
                  <a:pt x="392" y="631"/>
                </a:moveTo>
                <a:lnTo>
                  <a:pt x="384" y="159"/>
                </a:lnTo>
                <a:lnTo>
                  <a:pt x="0" y="0"/>
                </a:lnTo>
                <a:lnTo>
                  <a:pt x="40" y="415"/>
                </a:lnTo>
                <a:lnTo>
                  <a:pt x="392" y="631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4573440"/>
            <a:ext cx="679680" cy="1179720"/>
          </a:xfrm>
          <a:custGeom>
            <a:avLst/>
            <a:gdLst/>
            <a:ahLst/>
            <a:rect l="l" t="t" r="r" b="b"/>
            <a:pathLst>
              <a:path w="428" h="743">
                <a:moveTo>
                  <a:pt x="428" y="743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9560" y="4178160"/>
            <a:ext cx="28440" cy="677880"/>
          </a:xfrm>
          <a:custGeom>
            <a:avLst/>
            <a:gdLst/>
            <a:ahLst/>
            <a:rect l="l" t="t" r="r" b="b"/>
            <a:pathLst>
              <a:path w="18" h="427">
                <a:moveTo>
                  <a:pt x="18" y="42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905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37200" y="4346640"/>
            <a:ext cx="1011240" cy="194292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62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152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02280" y="4844880"/>
            <a:ext cx="582840" cy="749520"/>
          </a:xfrm>
          <a:custGeom>
            <a:avLst/>
            <a:gdLst/>
            <a:ahLst/>
            <a:rect l="l" t="t" r="r" b="b"/>
            <a:pathLst>
              <a:path w="367" h="472">
                <a:moveTo>
                  <a:pt x="367" y="472"/>
                </a:moveTo>
                <a:lnTo>
                  <a:pt x="359" y="0"/>
                </a:lnTo>
                <a:lnTo>
                  <a:pt x="0" y="44"/>
                </a:lnTo>
                <a:lnTo>
                  <a:pt x="83" y="376"/>
                </a:lnTo>
                <a:lnTo>
                  <a:pt x="367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77080" y="4881600"/>
            <a:ext cx="595080" cy="87768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553"/>
                </a:moveTo>
                <a:lnTo>
                  <a:pt x="368" y="0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2748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935680" y="4834080"/>
            <a:ext cx="674640" cy="154764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08240" y="4659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4320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8000" y="4229280"/>
            <a:ext cx="339840" cy="672840"/>
          </a:xfrm>
          <a:custGeom>
            <a:avLst/>
            <a:gdLst/>
            <a:ahLst/>
            <a:rect l="l" t="t" r="r" b="b"/>
            <a:pathLst>
              <a:path w="214" h="424">
                <a:moveTo>
                  <a:pt x="0" y="424"/>
                </a:moveTo>
                <a:lnTo>
                  <a:pt x="214" y="0"/>
                </a:lnTo>
              </a:path>
            </a:pathLst>
          </a:custGeom>
          <a:noFill/>
          <a:ln cap="rnd" w="57240">
            <a:solidFill>
              <a:srgbClr val="66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18440" y="40640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43160" y="406404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66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32000" y="923760"/>
            <a:ext cx="1011240" cy="194328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49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66320" y="2343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62160" y="139536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11400" y="1419120"/>
            <a:ext cx="653760" cy="87804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22280" y="121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30480" y="1411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03400" y="1236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38000" y="2249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4480" y="168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63600" y="2363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959440" y="141588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1440000"/>
            <a:ext cx="654120" cy="87768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560" y="1238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35280" y="2270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92120" y="18900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09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944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700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6200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24720" y="1071720"/>
            <a:ext cx="61416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436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470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950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950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54080" y="10731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65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87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8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1804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6400" y="104940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5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54080" y="4548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33440" y="4660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03920" y="45356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15040" y="4830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689160" y="1316880"/>
            <a:ext cx="351360" cy="361080"/>
            <a:chOff x="6689160" y="1316880"/>
            <a:chExt cx="351360" cy="361080"/>
          </a:xfrm>
        </p:grpSpPr>
        <p:sp>
          <p:nvSpPr>
            <p:cNvPr id="502" name=""/>
            <p:cNvSpPr/>
            <p:nvPr/>
          </p:nvSpPr>
          <p:spPr>
            <a:xfrm rot="19936800">
              <a:off x="6685560" y="145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6072200">
              <a:off x="6693480" y="146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732780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980040" y="4264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6520" y="4311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067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935480" y="194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95400" y="4259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21480" y="4229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7180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8472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63800" y="1065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7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61080" y="10605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72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15200" y="8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1049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08880" y="75708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744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0720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17680" y="422604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77960" y="43005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80040" y="422100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40320" y="4295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745680" y="4503240"/>
            <a:ext cx="336600" cy="365760"/>
            <a:chOff x="6745680" y="4503240"/>
            <a:chExt cx="336600" cy="365760"/>
          </a:xfrm>
        </p:grpSpPr>
        <p:sp>
          <p:nvSpPr>
            <p:cNvPr id="567" name=""/>
            <p:cNvSpPr/>
            <p:nvPr/>
          </p:nvSpPr>
          <p:spPr>
            <a:xfrm rot="5939400">
              <a:off x="6742800" y="46494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74800">
              <a:off x="6734520" y="4653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7195680" y="140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20800" y="5141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89120" y="46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369200" y="4925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45200" y="3992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08880" y="803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95400" y="4227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611760" y="426888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6836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8472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1520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5636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64312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08880" y="777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98640" y="4863960"/>
            <a:ext cx="59832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08240" y="4286160"/>
            <a:ext cx="1199880" cy="1314720"/>
          </a:xfrm>
          <a:custGeom>
            <a:avLst/>
            <a:gdLst/>
            <a:ahLst/>
            <a:rect l="l" t="t" r="r" b="b"/>
            <a:pathLst>
              <a:path w="756" h="828">
                <a:moveTo>
                  <a:pt x="360" y="828"/>
                </a:moveTo>
                <a:lnTo>
                  <a:pt x="352" y="356"/>
                </a:lnTo>
                <a:lnTo>
                  <a:pt x="756" y="152"/>
                </a:lnTo>
                <a:lnTo>
                  <a:pt x="624" y="0"/>
                </a:lnTo>
                <a:lnTo>
                  <a:pt x="0" y="120"/>
                </a:lnTo>
                <a:lnTo>
                  <a:pt x="8" y="612"/>
                </a:lnTo>
                <a:lnTo>
                  <a:pt x="360" y="82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855800" y="4527720"/>
            <a:ext cx="696960" cy="1225440"/>
          </a:xfrm>
          <a:custGeom>
            <a:avLst/>
            <a:gdLst/>
            <a:ahLst/>
            <a:rect l="l" t="t" r="r" b="b"/>
            <a:pathLst>
              <a:path w="439" h="772">
                <a:moveTo>
                  <a:pt x="7" y="772"/>
                </a:moveTo>
                <a:lnTo>
                  <a:pt x="0" y="219"/>
                </a:lnTo>
                <a:lnTo>
                  <a:pt x="43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87692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643120" y="4692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79560" y="4165560"/>
            <a:ext cx="28440" cy="690480"/>
          </a:xfrm>
          <a:custGeom>
            <a:avLst/>
            <a:gdLst/>
            <a:ahLst/>
            <a:rect l="l" t="t" r="r" b="b"/>
            <a:pathLst>
              <a:path w="18" h="435">
                <a:moveTo>
                  <a:pt x="18" y="4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479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808680" y="4495680"/>
            <a:ext cx="1125720" cy="1105200"/>
          </a:xfrm>
          <a:custGeom>
            <a:avLst/>
            <a:gdLst/>
            <a:ahLst/>
            <a:rect l="l" t="t" r="r" b="b"/>
            <a:pathLst>
              <a:path w="709" h="696">
                <a:moveTo>
                  <a:pt x="284" y="696"/>
                </a:moveTo>
                <a:lnTo>
                  <a:pt x="276" y="224"/>
                </a:lnTo>
                <a:lnTo>
                  <a:pt x="709" y="400"/>
                </a:lnTo>
                <a:lnTo>
                  <a:pt x="661" y="128"/>
                </a:lnTo>
                <a:lnTo>
                  <a:pt x="653" y="0"/>
                </a:lnTo>
                <a:lnTo>
                  <a:pt x="47" y="32"/>
                </a:lnTo>
                <a:lnTo>
                  <a:pt x="0" y="600"/>
                </a:lnTo>
                <a:lnTo>
                  <a:pt x="284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739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294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0196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9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1128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73800" y="4483080"/>
            <a:ext cx="1054080" cy="1111320"/>
          </a:xfrm>
          <a:custGeom>
            <a:avLst/>
            <a:gdLst/>
            <a:ahLst/>
            <a:rect l="l" t="t" r="r" b="b"/>
            <a:pathLst>
              <a:path w="664" h="700">
                <a:moveTo>
                  <a:pt x="284" y="700"/>
                </a:moveTo>
                <a:lnTo>
                  <a:pt x="276" y="228"/>
                </a:lnTo>
                <a:lnTo>
                  <a:pt x="664" y="200"/>
                </a:lnTo>
                <a:lnTo>
                  <a:pt x="568" y="0"/>
                </a:lnTo>
                <a:lnTo>
                  <a:pt x="56" y="48"/>
                </a:lnTo>
                <a:lnTo>
                  <a:pt x="0" y="604"/>
                </a:lnTo>
                <a:lnTo>
                  <a:pt x="284" y="70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00760" y="4822920"/>
            <a:ext cx="639720" cy="882720"/>
          </a:xfrm>
          <a:custGeom>
            <a:avLst/>
            <a:gdLst/>
            <a:ahLst/>
            <a:rect l="l" t="t" r="r" b="b"/>
            <a:pathLst>
              <a:path w="403" h="556">
                <a:moveTo>
                  <a:pt x="7" y="556"/>
                </a:moveTo>
                <a:lnTo>
                  <a:pt x="0" y="3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7684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503760" y="4869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8296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9544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46840" y="4869000"/>
            <a:ext cx="598320" cy="145872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52960" y="4881600"/>
            <a:ext cx="64800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262640" y="4843440"/>
            <a:ext cx="59868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485604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236000" y="4875120"/>
            <a:ext cx="685800" cy="878040"/>
          </a:xfrm>
          <a:custGeom>
            <a:avLst/>
            <a:gdLst/>
            <a:ahLst/>
            <a:rect l="l" t="t" r="r" b="b"/>
            <a:pathLst>
              <a:path w="432" h="553">
                <a:moveTo>
                  <a:pt x="7" y="553"/>
                </a:moveTo>
                <a:lnTo>
                  <a:pt x="0" y="0"/>
                </a:lnTo>
                <a:lnTo>
                  <a:pt x="432" y="1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36840" y="4191120"/>
            <a:ext cx="323640" cy="712800"/>
          </a:xfrm>
          <a:custGeom>
            <a:avLst/>
            <a:gdLst/>
            <a:ahLst/>
            <a:rect l="l" t="t" r="r" b="b"/>
            <a:pathLst>
              <a:path w="204" h="449">
                <a:moveTo>
                  <a:pt x="204" y="44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7720" y="40384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03280" y="4038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1912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16000" y="83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0000" y="4624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60840" y="3949560"/>
            <a:ext cx="1703520" cy="241164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61240" y="45687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95960" y="41911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04840" y="4376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98360" y="4697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140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1696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104520" y="1339920"/>
            <a:ext cx="336960" cy="365400"/>
            <a:chOff x="6104520" y="1339920"/>
            <a:chExt cx="336960" cy="365400"/>
          </a:xfrm>
        </p:grpSpPr>
        <p:sp>
          <p:nvSpPr>
            <p:cNvPr id="659" name=""/>
            <p:cNvSpPr/>
            <p:nvPr/>
          </p:nvSpPr>
          <p:spPr>
            <a:xfrm rot="16735200">
              <a:off x="6085080" y="14860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2870600">
              <a:off x="6093720" y="14821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987880" y="62064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637320" y="714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4960" y="410220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51440" y="4195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14360" y="416556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04840" y="4259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72436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27120" y="196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48000" y="4170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26160" y="4233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82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828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632640" y="131292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637320" y="1079640"/>
            <a:ext cx="614520" cy="244440"/>
          </a:xfrm>
          <a:custGeom>
            <a:avLst/>
            <a:gdLst/>
            <a:ahLst/>
            <a:rect l="l" t="t" r="r" b="b"/>
            <a:pathLst>
              <a:path w="387" h="154">
                <a:moveTo>
                  <a:pt x="0" y="154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03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06848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2784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95628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054840" y="64620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57920" y="76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400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In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all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situations: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specified are two segments per linestring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but only the first segment, per linestring, including the arrow (to-vertex) of that first segment, is handled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So handled is where the two arrows meet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or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where one arrow meet the interior of the other, but anything related to a starting point of a segment is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not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handled (because handled in the ending point of the segment bef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9440" y="2997360"/>
            <a:ext cx="1498680" cy="3492360"/>
          </a:xfrm>
          <a:custGeom>
            <a:avLst/>
            <a:gdLst/>
            <a:ahLst/>
            <a:rect l="l" t="t" r="r" b="b"/>
            <a:pathLst>
              <a:path w="944" h="2200">
                <a:moveTo>
                  <a:pt x="15" y="2200"/>
                </a:moveTo>
                <a:lnTo>
                  <a:pt x="0" y="552"/>
                </a:lnTo>
                <a:lnTo>
                  <a:pt x="944" y="0"/>
                </a:lnTo>
                <a:lnTo>
                  <a:pt x="928" y="448"/>
                </a:lnTo>
                <a:lnTo>
                  <a:pt x="528" y="720"/>
                </a:lnTo>
                <a:lnTo>
                  <a:pt x="536" y="2030"/>
                </a:lnTo>
                <a:lnTo>
                  <a:pt x="15" y="2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3200" y="2882880"/>
            <a:ext cx="1614600" cy="3640320"/>
          </a:xfrm>
          <a:custGeom>
            <a:avLst/>
            <a:gdLst/>
            <a:ahLst/>
            <a:rect l="l" t="t" r="r" b="b"/>
            <a:pathLst>
              <a:path w="1017" h="2293">
                <a:moveTo>
                  <a:pt x="0" y="2293"/>
                </a:moveTo>
                <a:lnTo>
                  <a:pt x="1" y="624"/>
                </a:lnTo>
                <a:lnTo>
                  <a:pt x="101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9520" y="3760920"/>
            <a:ext cx="1218960" cy="2671560"/>
          </a:xfrm>
          <a:custGeom>
            <a:avLst/>
            <a:gdLst/>
            <a:ahLst/>
            <a:rect l="l" t="t" r="r" b="b"/>
            <a:pathLst>
              <a:path w="768" h="1683">
                <a:moveTo>
                  <a:pt x="657" y="624"/>
                </a:moveTo>
                <a:lnTo>
                  <a:pt x="657" y="144"/>
                </a:lnTo>
                <a:lnTo>
                  <a:pt x="630" y="57"/>
                </a:lnTo>
                <a:lnTo>
                  <a:pt x="639" y="15"/>
                </a:lnTo>
                <a:lnTo>
                  <a:pt x="693" y="0"/>
                </a:lnTo>
                <a:lnTo>
                  <a:pt x="732" y="6"/>
                </a:lnTo>
                <a:lnTo>
                  <a:pt x="753" y="60"/>
                </a:lnTo>
                <a:lnTo>
                  <a:pt x="729" y="138"/>
                </a:lnTo>
                <a:lnTo>
                  <a:pt x="735" y="630"/>
                </a:lnTo>
                <a:lnTo>
                  <a:pt x="753" y="657"/>
                </a:lnTo>
                <a:lnTo>
                  <a:pt x="768" y="693"/>
                </a:lnTo>
                <a:lnTo>
                  <a:pt x="750" y="741"/>
                </a:lnTo>
                <a:lnTo>
                  <a:pt x="732" y="762"/>
                </a:lnTo>
                <a:lnTo>
                  <a:pt x="729" y="1683"/>
                </a:lnTo>
                <a:lnTo>
                  <a:pt x="657" y="1683"/>
                </a:lnTo>
                <a:lnTo>
                  <a:pt x="654" y="762"/>
                </a:lnTo>
                <a:lnTo>
                  <a:pt x="45" y="1065"/>
                </a:lnTo>
                <a:lnTo>
                  <a:pt x="0" y="981"/>
                </a:lnTo>
                <a:lnTo>
                  <a:pt x="657" y="624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560" y="4697280"/>
            <a:ext cx="79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to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61640" y="4768920"/>
            <a:ext cx="105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from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 crosses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lef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right or righ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le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33200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79800" y="1312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97160"/>
            <a:ext cx="2362320" cy="57132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290760" y="4913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27200" y="3984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7240" y="48402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407200" y="4848120"/>
            <a:ext cx="236196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97076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976880" y="4913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94240" y="13446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117480" y="1215720"/>
            <a:ext cx="336960" cy="365400"/>
            <a:chOff x="6117480" y="1215720"/>
            <a:chExt cx="336960" cy="365400"/>
          </a:xfrm>
        </p:grpSpPr>
        <p:sp>
          <p:nvSpPr>
            <p:cNvPr id="736" name=""/>
            <p:cNvSpPr/>
            <p:nvPr/>
          </p:nvSpPr>
          <p:spPr>
            <a:xfrm rot="16735200">
              <a:off x="6098040" y="1361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2870600">
              <a:off x="6106680" y="1357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84280" y="4797360"/>
            <a:ext cx="1323720" cy="54000"/>
          </a:xfrm>
          <a:custGeom>
            <a:avLst/>
            <a:gdLst/>
            <a:ahLst/>
            <a:rect l="l" t="t" r="r" b="b"/>
            <a:pathLst>
              <a:path w="834" h="34">
                <a:moveTo>
                  <a:pt x="834" y="0"/>
                </a:moveTo>
                <a:lnTo>
                  <a:pt x="0" y="3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81360" y="3619440"/>
            <a:ext cx="10800" cy="1177920"/>
          </a:xfrm>
          <a:custGeom>
            <a:avLst/>
            <a:gdLst/>
            <a:ahLst/>
            <a:rect l="l" t="t" r="r" b="b"/>
            <a:pathLst>
              <a:path w="7" h="742">
                <a:moveTo>
                  <a:pt x="0" y="742"/>
                </a:moveTo>
                <a:lnTo>
                  <a:pt x="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82800" y="4533840"/>
            <a:ext cx="1317600" cy="298440"/>
          </a:xfrm>
          <a:custGeom>
            <a:avLst/>
            <a:gdLst/>
            <a:ahLst/>
            <a:rect l="l" t="t" r="r" b="b"/>
            <a:pathLst>
              <a:path w="830" h="188">
                <a:moveTo>
                  <a:pt x="0" y="188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908000" y="3911760"/>
            <a:ext cx="987480" cy="895320"/>
          </a:xfrm>
          <a:custGeom>
            <a:avLst/>
            <a:gdLst/>
            <a:ahLst/>
            <a:rect l="l" t="t" r="r" b="b"/>
            <a:pathLst>
              <a:path w="622" h="564">
                <a:moveTo>
                  <a:pt x="0" y="564"/>
                </a:moveTo>
                <a:lnTo>
                  <a:pt x="622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908000" y="4813200"/>
            <a:ext cx="1317960" cy="3240"/>
          </a:xfrm>
          <a:custGeom>
            <a:avLst/>
            <a:gdLst/>
            <a:ahLst/>
            <a:rect l="l" t="t" r="r" b="b"/>
            <a:pathLst>
              <a:path w="830" h="2">
                <a:moveTo>
                  <a:pt x="0" y="2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614680" y="2092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7240" y="139536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33200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8360" y="1413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15800" y="4925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27200" y="3984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48360" y="491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64000" y="167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35640" y="8240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00200" y="435780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50040" y="431784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759000" y="4746600"/>
            <a:ext cx="309600" cy="363600"/>
            <a:chOff x="6759000" y="4746600"/>
            <a:chExt cx="309600" cy="363600"/>
          </a:xfrm>
        </p:grpSpPr>
        <p:sp>
          <p:nvSpPr>
            <p:cNvPr id="794" name=""/>
            <p:cNvSpPr/>
            <p:nvPr/>
          </p:nvSpPr>
          <p:spPr>
            <a:xfrm rot="18973800">
              <a:off x="6734160" y="48895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5109200">
              <a:off x="6743520" y="4891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14680" y="209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9528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ern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0605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282680" y="1380960"/>
            <a:ext cx="671400" cy="879480"/>
          </a:xfrm>
          <a:custGeom>
            <a:avLst/>
            <a:gdLst/>
            <a:ahLst/>
            <a:rect l="l" t="t" r="r" b="b"/>
            <a:pathLst>
              <a:path w="423" h="554">
                <a:moveTo>
                  <a:pt x="196" y="554"/>
                </a:moveTo>
                <a:lnTo>
                  <a:pt x="423" y="0"/>
                </a:lnTo>
                <a:lnTo>
                  <a:pt x="0" y="358"/>
                </a:lnTo>
                <a:lnTo>
                  <a:pt x="196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25440" y="1374840"/>
            <a:ext cx="668520" cy="942840"/>
          </a:xfrm>
          <a:custGeom>
            <a:avLst/>
            <a:gdLst/>
            <a:ahLst/>
            <a:rect l="l" t="t" r="r" b="b"/>
            <a:pathLst>
              <a:path w="421" h="594">
                <a:moveTo>
                  <a:pt x="220" y="594"/>
                </a:moveTo>
                <a:lnTo>
                  <a:pt x="421" y="0"/>
                </a:lnTo>
                <a:lnTo>
                  <a:pt x="0" y="39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27000" y="137160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2236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78340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31000" y="749160"/>
            <a:ext cx="745920" cy="1540080"/>
          </a:xfrm>
          <a:custGeom>
            <a:avLst/>
            <a:gdLst/>
            <a:ahLst/>
            <a:rect l="l" t="t" r="r" b="b"/>
            <a:pathLst>
              <a:path w="470" h="970">
                <a:moveTo>
                  <a:pt x="243" y="970"/>
                </a:moveTo>
                <a:lnTo>
                  <a:pt x="470" y="416"/>
                </a:lnTo>
                <a:lnTo>
                  <a:pt x="0" y="0"/>
                </a:lnTo>
                <a:lnTo>
                  <a:pt x="0" y="696"/>
                </a:lnTo>
                <a:lnTo>
                  <a:pt x="243" y="97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931000" y="749160"/>
            <a:ext cx="685800" cy="1597320"/>
          </a:xfrm>
          <a:custGeom>
            <a:avLst/>
            <a:gdLst/>
            <a:ahLst/>
            <a:rect l="l" t="t" r="r" b="b"/>
            <a:pathLst>
              <a:path w="432" h="1006">
                <a:moveTo>
                  <a:pt x="231" y="1006"/>
                </a:moveTo>
                <a:lnTo>
                  <a:pt x="432" y="41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4984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7800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14520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15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046160" y="4379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25880"/>
            <a:ext cx="863640" cy="812880"/>
          </a:xfrm>
          <a:custGeom>
            <a:avLst/>
            <a:gdLst/>
            <a:ahLst/>
            <a:rect l="l" t="t" r="r" b="b"/>
            <a:pathLst>
              <a:path w="544" h="512">
                <a:moveTo>
                  <a:pt x="0" y="0"/>
                </a:moveTo>
                <a:lnTo>
                  <a:pt x="214" y="512"/>
                </a:lnTo>
                <a:lnTo>
                  <a:pt x="544" y="120"/>
                </a:lnTo>
                <a:lnTo>
                  <a:pt x="424" y="96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62040" y="3873600"/>
            <a:ext cx="978120" cy="958680"/>
          </a:xfrm>
          <a:custGeom>
            <a:avLst/>
            <a:gdLst/>
            <a:ahLst/>
            <a:rect l="l" t="t" r="r" b="b"/>
            <a:pathLst>
              <a:path w="616" h="604">
                <a:moveTo>
                  <a:pt x="616" y="208"/>
                </a:moveTo>
                <a:lnTo>
                  <a:pt x="200" y="6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12960" y="4829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4076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78120" y="4194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57840" y="441000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981760" y="4869000"/>
            <a:ext cx="1206360" cy="1049040"/>
          </a:xfrm>
          <a:custGeom>
            <a:avLst/>
            <a:gdLst/>
            <a:ahLst/>
            <a:rect l="l" t="t" r="r" b="b"/>
            <a:pathLst>
              <a:path w="760" h="661">
                <a:moveTo>
                  <a:pt x="760" y="493"/>
                </a:moveTo>
                <a:lnTo>
                  <a:pt x="422" y="0"/>
                </a:lnTo>
                <a:lnTo>
                  <a:pt x="0" y="357"/>
                </a:lnTo>
                <a:lnTo>
                  <a:pt x="296" y="661"/>
                </a:lnTo>
                <a:lnTo>
                  <a:pt x="760" y="49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56200" y="4862520"/>
            <a:ext cx="1282680" cy="928800"/>
          </a:xfrm>
          <a:custGeom>
            <a:avLst/>
            <a:gdLst/>
            <a:ahLst/>
            <a:rect l="l" t="t" r="r" b="b"/>
            <a:pathLst>
              <a:path w="808" h="585">
                <a:moveTo>
                  <a:pt x="808" y="585"/>
                </a:moveTo>
                <a:lnTo>
                  <a:pt x="400" y="0"/>
                </a:lnTo>
                <a:lnTo>
                  <a:pt x="0" y="3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624640" y="485928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52440" y="5796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119640" y="533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89800" y="422424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36600" y="4221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6852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63560" y="167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941400" y="5124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476360" y="3678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435640" y="5119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97560" y="5751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03800" y="23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08720" y="17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0400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764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00400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0429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901800" y="1066680"/>
            <a:ext cx="1270080" cy="1143000"/>
          </a:xfrm>
          <a:custGeom>
            <a:avLst/>
            <a:gdLst/>
            <a:ahLst/>
            <a:rect l="l" t="t" r="r" b="b"/>
            <a:pathLst>
              <a:path w="800" h="720">
                <a:moveTo>
                  <a:pt x="800" y="720"/>
                </a:moveTo>
                <a:lnTo>
                  <a:pt x="652" y="216"/>
                </a:lnTo>
                <a:lnTo>
                  <a:pt x="0" y="0"/>
                </a:lnTo>
                <a:lnTo>
                  <a:pt x="208" y="640"/>
                </a:lnTo>
                <a:lnTo>
                  <a:pt x="800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901800" y="1079640"/>
            <a:ext cx="1333440" cy="1244520"/>
          </a:xfrm>
          <a:custGeom>
            <a:avLst/>
            <a:gdLst/>
            <a:ahLst/>
            <a:rect l="l" t="t" r="r" b="b"/>
            <a:pathLst>
              <a:path w="840" h="784">
                <a:moveTo>
                  <a:pt x="840" y="784"/>
                </a:moveTo>
                <a:lnTo>
                  <a:pt x="614" y="2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909720" y="1400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9375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047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874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282760" y="23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70040" y="1697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00436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057320" y="44179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92320" y="4870440"/>
            <a:ext cx="714240" cy="812880"/>
          </a:xfrm>
          <a:custGeom>
            <a:avLst/>
            <a:gdLst/>
            <a:ahLst/>
            <a:rect l="l" t="t" r="r" b="b"/>
            <a:pathLst>
              <a:path w="450" h="512">
                <a:moveTo>
                  <a:pt x="428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428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92320" y="4915080"/>
            <a:ext cx="666720" cy="895320"/>
          </a:xfrm>
          <a:custGeom>
            <a:avLst/>
            <a:gdLst/>
            <a:ahLst/>
            <a:rect l="l" t="t" r="r" b="b"/>
            <a:pathLst>
              <a:path w="420" h="564">
                <a:moveTo>
                  <a:pt x="420" y="56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36720" y="483696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951920" y="580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368360" y="5353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889280" y="4232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643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931000" y="1409760"/>
            <a:ext cx="714240" cy="879480"/>
          </a:xfrm>
          <a:custGeom>
            <a:avLst/>
            <a:gdLst/>
            <a:ahLst/>
            <a:rect l="l" t="t" r="r" b="b"/>
            <a:pathLst>
              <a:path w="450" h="554">
                <a:moveTo>
                  <a:pt x="223" y="554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223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931000" y="1454040"/>
            <a:ext cx="666720" cy="943200"/>
          </a:xfrm>
          <a:custGeom>
            <a:avLst/>
            <a:gdLst/>
            <a:ahLst/>
            <a:rect l="l" t="t" r="r" b="b"/>
            <a:pathLst>
              <a:path w="420" h="594">
                <a:moveTo>
                  <a:pt x="219" y="59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63076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89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1261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59592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42720" y="4834080"/>
            <a:ext cx="322560" cy="365760"/>
            <a:chOff x="1242720" y="4834080"/>
            <a:chExt cx="322560" cy="365760"/>
          </a:xfrm>
        </p:grpSpPr>
        <p:sp>
          <p:nvSpPr>
            <p:cNvPr id="883" name=""/>
            <p:cNvSpPr/>
            <p:nvPr/>
          </p:nvSpPr>
          <p:spPr>
            <a:xfrm rot="6243000">
              <a:off x="1233000" y="49806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378400">
              <a:off x="1224720" y="49845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692360" y="5173200"/>
            <a:ext cx="345240" cy="261720"/>
            <a:chOff x="1692360" y="5173200"/>
            <a:chExt cx="345240" cy="261720"/>
          </a:xfrm>
        </p:grpSpPr>
        <p:sp>
          <p:nvSpPr>
            <p:cNvPr id="886" name=""/>
            <p:cNvSpPr/>
            <p:nvPr/>
          </p:nvSpPr>
          <p:spPr>
            <a:xfrm rot="1855200">
              <a:off x="1685520" y="525996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9590600">
              <a:off x="1687320" y="526932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009120" y="1379520"/>
            <a:ext cx="328320" cy="365760"/>
            <a:chOff x="6009120" y="1379520"/>
            <a:chExt cx="328320" cy="365760"/>
          </a:xfrm>
        </p:grpSpPr>
        <p:sp>
          <p:nvSpPr>
            <p:cNvPr id="889" name=""/>
            <p:cNvSpPr/>
            <p:nvPr/>
          </p:nvSpPr>
          <p:spPr>
            <a:xfrm rot="6121800">
              <a:off x="6002280" y="15260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257200">
              <a:off x="5994000" y="1530360"/>
              <a:ext cx="358560" cy="7236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632772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435280" y="167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80840" y="5137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688760" y="5778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757840" y="4406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873760" y="4878360"/>
            <a:ext cx="958680" cy="812880"/>
          </a:xfrm>
          <a:custGeom>
            <a:avLst/>
            <a:gdLst/>
            <a:ahLst/>
            <a:rect l="l" t="t" r="r" b="b"/>
            <a:pathLst>
              <a:path w="604" h="512">
                <a:moveTo>
                  <a:pt x="604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604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873760" y="4923000"/>
            <a:ext cx="1022400" cy="857160"/>
          </a:xfrm>
          <a:custGeom>
            <a:avLst/>
            <a:gdLst/>
            <a:ahLst/>
            <a:rect l="l" t="t" r="r" b="b"/>
            <a:pathLst>
              <a:path w="644" h="540">
                <a:moveTo>
                  <a:pt x="644" y="540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624640" y="4856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2440" y="5792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68880" y="534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589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047280" y="4852800"/>
            <a:ext cx="328320" cy="366120"/>
            <a:chOff x="6047280" y="4852800"/>
            <a:chExt cx="328320" cy="366120"/>
          </a:xfrm>
        </p:grpSpPr>
        <p:sp>
          <p:nvSpPr>
            <p:cNvPr id="903" name=""/>
            <p:cNvSpPr/>
            <p:nvPr/>
          </p:nvSpPr>
          <p:spPr>
            <a:xfrm rot="6121800">
              <a:off x="6040080" y="499932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257200">
              <a:off x="6031800" y="50036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6981840" y="579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486040" y="5145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060560" y="43941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017720" y="4259160"/>
            <a:ext cx="874440" cy="851040"/>
          </a:xfrm>
          <a:custGeom>
            <a:avLst/>
            <a:gdLst/>
            <a:ahLst/>
            <a:rect l="l" t="t" r="r" b="b"/>
            <a:pathLst>
              <a:path w="551" h="536">
                <a:moveTo>
                  <a:pt x="0" y="536"/>
                </a:moveTo>
                <a:lnTo>
                  <a:pt x="551" y="374"/>
                </a:lnTo>
                <a:lnTo>
                  <a:pt x="135" y="0"/>
                </a:lnTo>
                <a:lnTo>
                  <a:pt x="0" y="5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39960" y="4259160"/>
            <a:ext cx="954000" cy="952560"/>
          </a:xfrm>
          <a:custGeom>
            <a:avLst/>
            <a:gdLst/>
            <a:ahLst/>
            <a:rect l="l" t="t" r="r" b="b"/>
            <a:pathLst>
              <a:path w="601" h="600">
                <a:moveTo>
                  <a:pt x="0" y="600"/>
                </a:moveTo>
                <a:lnTo>
                  <a:pt x="601" y="402"/>
                </a:lnTo>
                <a:lnTo>
                  <a:pt x="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27000" y="48434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955160" y="5780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45960" y="439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892160" y="42084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80860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16520" y="800280"/>
            <a:ext cx="811440" cy="1736640"/>
          </a:xfrm>
          <a:custGeom>
            <a:avLst/>
            <a:gdLst/>
            <a:ahLst/>
            <a:rect l="l" t="t" r="r" b="b"/>
            <a:pathLst>
              <a:path w="511" h="1094">
                <a:moveTo>
                  <a:pt x="480" y="1094"/>
                </a:moveTo>
                <a:lnTo>
                  <a:pt x="511" y="374"/>
                </a:lnTo>
                <a:lnTo>
                  <a:pt x="95" y="0"/>
                </a:lnTo>
                <a:lnTo>
                  <a:pt x="0" y="694"/>
                </a:lnTo>
                <a:lnTo>
                  <a:pt x="480" y="109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929200" y="787320"/>
            <a:ext cx="674640" cy="1812960"/>
          </a:xfrm>
          <a:custGeom>
            <a:avLst/>
            <a:gdLst/>
            <a:ahLst/>
            <a:rect l="l" t="t" r="r" b="b"/>
            <a:pathLst>
              <a:path w="425" h="1142">
                <a:moveTo>
                  <a:pt x="425" y="1142"/>
                </a:moveTo>
                <a:lnTo>
                  <a:pt x="41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7540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78744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02460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64056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0587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57480" y="1380960"/>
            <a:ext cx="633240" cy="1143000"/>
          </a:xfrm>
          <a:custGeom>
            <a:avLst/>
            <a:gdLst/>
            <a:ahLst/>
            <a:rect l="l" t="t" r="r" b="b"/>
            <a:pathLst>
              <a:path w="399" h="720">
                <a:moveTo>
                  <a:pt x="368" y="720"/>
                </a:moveTo>
                <a:lnTo>
                  <a:pt x="399" y="0"/>
                </a:lnTo>
                <a:lnTo>
                  <a:pt x="0" y="535"/>
                </a:lnTo>
                <a:lnTo>
                  <a:pt x="368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231920" y="1425600"/>
            <a:ext cx="622440" cy="1174680"/>
          </a:xfrm>
          <a:custGeom>
            <a:avLst/>
            <a:gdLst/>
            <a:ahLst/>
            <a:rect l="l" t="t" r="r" b="b"/>
            <a:pathLst>
              <a:path w="392" h="740">
                <a:moveTo>
                  <a:pt x="392" y="740"/>
                </a:moveTo>
                <a:lnTo>
                  <a:pt x="384" y="0"/>
                </a:lnTo>
                <a:lnTo>
                  <a:pt x="0" y="53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2556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03760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27476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9072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43040" y="1654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929880" y="5200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5280" y="4941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22760" y="1484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8800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92360" y="1895040"/>
            <a:ext cx="345240" cy="261720"/>
            <a:chOff x="1692360" y="1895040"/>
            <a:chExt cx="345240" cy="261720"/>
          </a:xfrm>
        </p:grpSpPr>
        <p:sp>
          <p:nvSpPr>
            <p:cNvPr id="938" name=""/>
            <p:cNvSpPr/>
            <p:nvPr/>
          </p:nvSpPr>
          <p:spPr>
            <a:xfrm rot="1855200">
              <a:off x="1685520" y="19818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9590600">
              <a:off x="1687320" y="19911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454800" y="1748880"/>
            <a:ext cx="345240" cy="261720"/>
            <a:chOff x="6454800" y="1748880"/>
            <a:chExt cx="345240" cy="261720"/>
          </a:xfrm>
        </p:grpSpPr>
        <p:sp>
          <p:nvSpPr>
            <p:cNvPr id="941" name=""/>
            <p:cNvSpPr/>
            <p:nvPr/>
          </p:nvSpPr>
          <p:spPr>
            <a:xfrm rot="1855200">
              <a:off x="6447960" y="183564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9590600">
              <a:off x="6449760" y="184500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443280" y="2608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3102120"/>
            <a:ext cx="4778280" cy="3300840"/>
          </a:xfrm>
          <a:prstGeom prst="rect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Alternative approa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11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4 layout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44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Left/right approa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6 * 4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24 cases (incl. co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3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6 cases (col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5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10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Total ~40 c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84360" y="3645000"/>
            <a:ext cx="2807280" cy="2773080"/>
            <a:chOff x="684360" y="3645000"/>
            <a:chExt cx="2807280" cy="2773080"/>
          </a:xfrm>
        </p:grpSpPr>
        <p:sp>
          <p:nvSpPr>
            <p:cNvPr id="179" name=""/>
            <p:cNvSpPr/>
            <p:nvPr/>
          </p:nvSpPr>
          <p:spPr>
            <a:xfrm>
              <a:off x="2070720" y="3809880"/>
              <a:ext cx="1065600" cy="2574000"/>
            </a:xfrm>
            <a:custGeom>
              <a:avLst/>
              <a:gdLst/>
              <a:ahLst/>
              <a:rect l="l" t="t" r="r" b="b"/>
              <a:pathLst>
                <a:path w="312" h="906">
                  <a:moveTo>
                    <a:pt x="1" y="906"/>
                  </a:moveTo>
                  <a:lnTo>
                    <a:pt x="0" y="0"/>
                  </a:lnTo>
                  <a:lnTo>
                    <a:pt x="312" y="32"/>
                  </a:lnTo>
                  <a:lnTo>
                    <a:pt x="287" y="810"/>
                  </a:lnTo>
                  <a:lnTo>
                    <a:pt x="1" y="906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6440" y="4124880"/>
              <a:ext cx="2698200" cy="1341360"/>
            </a:xfrm>
            <a:custGeom>
              <a:avLst/>
              <a:gdLst/>
              <a:ahLst/>
              <a:rect l="l" t="t" r="r" b="b"/>
              <a:pathLst>
                <a:path w="790" h="472">
                  <a:moveTo>
                    <a:pt x="790" y="0"/>
                  </a:moveTo>
                  <a:lnTo>
                    <a:pt x="790" y="225"/>
                  </a:lnTo>
                  <a:lnTo>
                    <a:pt x="414" y="472"/>
                  </a:lnTo>
                  <a:lnTo>
                    <a:pt x="0" y="415"/>
                  </a:lnTo>
                  <a:lnTo>
                    <a:pt x="790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67480" y="3645000"/>
              <a:ext cx="6840" cy="2773080"/>
            </a:xfrm>
            <a:custGeom>
              <a:avLst/>
              <a:gdLst/>
              <a:ahLst/>
              <a:rect l="l" t="t" r="r" b="b"/>
              <a:pathLst>
                <a:path w="2" h="976">
                  <a:moveTo>
                    <a:pt x="2" y="976"/>
                  </a:move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4360" y="4136400"/>
              <a:ext cx="2807280" cy="1184760"/>
            </a:xfrm>
            <a:custGeom>
              <a:avLst/>
              <a:gdLst/>
              <a:ahLst/>
              <a:rect l="l" t="t" r="r" b="b"/>
              <a:pathLst>
                <a:path w="822" h="417">
                  <a:moveTo>
                    <a:pt x="0" y="417"/>
                  </a:moveTo>
                  <a:lnTo>
                    <a:pt x="822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1911240" y="611820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626160" y="611964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7720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365904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92120" y="36702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403280" y="98748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380960" y="509112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12840" y="5130720"/>
            <a:ext cx="644400" cy="982800"/>
          </a:xfrm>
          <a:custGeom>
            <a:avLst/>
            <a:gdLst/>
            <a:ahLst/>
            <a:rect l="l" t="t" r="r" b="b"/>
            <a:pathLst>
              <a:path w="406" h="619">
                <a:moveTo>
                  <a:pt x="0" y="0"/>
                </a:moveTo>
                <a:lnTo>
                  <a:pt x="406" y="223"/>
                </a:lnTo>
                <a:lnTo>
                  <a:pt x="402" y="61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11720" y="539100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946840" y="5448240"/>
            <a:ext cx="641160" cy="965160"/>
          </a:xfrm>
          <a:custGeom>
            <a:avLst/>
            <a:gdLst/>
            <a:ahLst/>
            <a:rect l="l" t="t" r="r" b="b"/>
            <a:pathLst>
              <a:path w="404" h="608">
                <a:moveTo>
                  <a:pt x="0" y="0"/>
                </a:moveTo>
                <a:lnTo>
                  <a:pt x="404" y="212"/>
                </a:lnTo>
                <a:lnTo>
                  <a:pt x="400" y="6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273320" y="203508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38400" y="612144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5240" y="1023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29708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90440" y="493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93840" y="398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811840" y="524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02784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99560" y="180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374840" y="879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235160" y="7650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368360" y="43560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228680" y="424188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00920" y="4335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961240" y="4221000"/>
            <a:ext cx="67752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238400" y="1066680"/>
            <a:ext cx="641160" cy="943200"/>
          </a:xfrm>
          <a:custGeom>
            <a:avLst/>
            <a:gdLst/>
            <a:ahLst/>
            <a:rect l="l" t="t" r="r" b="b"/>
            <a:pathLst>
              <a:path w="404" h="594">
                <a:moveTo>
                  <a:pt x="0" y="0"/>
                </a:moveTo>
                <a:lnTo>
                  <a:pt x="404" y="198"/>
                </a:lnTo>
                <a:lnTo>
                  <a:pt x="40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396520" y="10987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49160" y="1063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627200" y="5167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357960" y="5467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768320" y="53481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464160" y="56833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699560" y="1352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382120" y="4592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097040" y="4594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664440" y="123840"/>
            <a:ext cx="1220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lli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ame as eq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86520" y="596880"/>
            <a:ext cx="752400" cy="1414440"/>
          </a:xfrm>
          <a:custGeom>
            <a:avLst/>
            <a:gdLst/>
            <a:ahLst/>
            <a:rect l="l" t="t" r="r" b="b"/>
            <a:pathLst>
              <a:path w="474" h="891">
                <a:moveTo>
                  <a:pt x="466" y="747"/>
                </a:moveTo>
                <a:lnTo>
                  <a:pt x="474" y="323"/>
                </a:lnTo>
                <a:lnTo>
                  <a:pt x="232" y="0"/>
                </a:lnTo>
                <a:lnTo>
                  <a:pt x="0" y="24"/>
                </a:lnTo>
                <a:lnTo>
                  <a:pt x="306" y="497"/>
                </a:lnTo>
                <a:lnTo>
                  <a:pt x="298" y="891"/>
                </a:lnTo>
                <a:lnTo>
                  <a:pt x="466" y="7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978520" y="203040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79600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816520" y="404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405120" y="179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80040" y="8748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940360" y="76032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972040" y="444600"/>
            <a:ext cx="613080" cy="1560240"/>
          </a:xfrm>
          <a:custGeom>
            <a:avLst/>
            <a:gdLst/>
            <a:ahLst/>
            <a:rect l="l" t="t" r="r" b="b"/>
            <a:pathLst>
              <a:path w="386" h="983">
                <a:moveTo>
                  <a:pt x="0" y="0"/>
                </a:moveTo>
                <a:lnTo>
                  <a:pt x="386" y="587"/>
                </a:lnTo>
                <a:lnTo>
                  <a:pt x="382" y="9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101720" y="1093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379920" y="75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469200" y="126360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405120" y="134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98744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28600" y="2752560"/>
            <a:ext cx="253548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Where endpoints P1,Q1 meet,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s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me as equal ,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920320" y="4653000"/>
            <a:ext cx="23479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How beginpoints P1,Q1 mee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 an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572000" y="1484280"/>
            <a:ext cx="1816200" cy="1206360"/>
          </a:xfrm>
          <a:custGeom>
            <a:avLst/>
            <a:gdLst/>
            <a:ahLst/>
            <a:rect l="l" t="t" r="r" b="b"/>
            <a:pathLst>
              <a:path w="1144" h="760">
                <a:moveTo>
                  <a:pt x="0" y="760"/>
                </a:moveTo>
                <a:lnTo>
                  <a:pt x="114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31840" y="1473120"/>
            <a:ext cx="1854360" cy="1219320"/>
          </a:xfrm>
          <a:custGeom>
            <a:avLst/>
            <a:gdLst/>
            <a:ahLst/>
            <a:rect l="l" t="t" r="r" b="b"/>
            <a:pathLst>
              <a:path w="1168" h="768">
                <a:moveTo>
                  <a:pt x="1168" y="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356000" y="5181480"/>
            <a:ext cx="2087640" cy="849600"/>
          </a:xfrm>
          <a:custGeom>
            <a:avLst/>
            <a:gdLst/>
            <a:ahLst/>
            <a:rect l="l" t="t" r="r" b="b"/>
            <a:pathLst>
              <a:path w="1315" h="535">
                <a:moveTo>
                  <a:pt x="0" y="0"/>
                </a:moveTo>
                <a:lnTo>
                  <a:pt x="1315" y="535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50920" y="5194440"/>
            <a:ext cx="1911600" cy="836640"/>
          </a:xfrm>
          <a:custGeom>
            <a:avLst/>
            <a:gdLst/>
            <a:ahLst/>
            <a:rect l="l" t="t" r="r" b="b"/>
            <a:pathLst>
              <a:path w="1204" h="527">
                <a:moveTo>
                  <a:pt x="1204" y="0"/>
                </a:moveTo>
                <a:lnTo>
                  <a:pt x="0" y="527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415880" y="68256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384200" y="8762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244520" y="762120"/>
            <a:ext cx="677880" cy="1892160"/>
          </a:xfrm>
          <a:custGeom>
            <a:avLst/>
            <a:gdLst/>
            <a:ahLst/>
            <a:rect l="l" t="t" r="r" b="b"/>
            <a:pathLst>
              <a:path w="427" h="1192">
                <a:moveTo>
                  <a:pt x="416" y="119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74760" y="887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32732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95560" y="1890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037480" y="2016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110280" y="130644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356160" y="1382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958000" y="138096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958000" y="2346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84120" y="17128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89520" y="116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45120" y="539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694880" y="156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92160" y="2130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91200" y="8780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951520" y="76356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244520" y="749160"/>
            <a:ext cx="64764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662120" y="758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394720" y="111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76240" y="12621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470640" y="1601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694880" y="1197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392160" y="1639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0588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124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01912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28276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938920" y="5802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284120" y="51814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962680" y="3995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093000" y="43466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952960" y="423216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804000" y="462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133760" y="4678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397160" y="43434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257480" y="4229280"/>
            <a:ext cx="67752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364840" y="4675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66960" y="427824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044440" y="4386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886040" y="423072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063440" y="401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76240" y="4730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546960" y="488952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24440" y="499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566040" y="484200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451560" y="5057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05120" y="3886200"/>
            <a:ext cx="288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549440" y="4241880"/>
            <a:ext cx="35856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29400" y="7491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0" y="368"/>
                </a:moveTo>
                <a:lnTo>
                  <a:pt x="40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647040" y="4216320"/>
            <a:ext cx="630000" cy="595440"/>
          </a:xfrm>
          <a:custGeom>
            <a:avLst/>
            <a:gdLst/>
            <a:ahLst/>
            <a:rect l="l" t="t" r="r" b="b"/>
            <a:pathLst>
              <a:path w="397" h="375">
                <a:moveTo>
                  <a:pt x="0" y="375"/>
                </a:moveTo>
                <a:lnTo>
                  <a:pt x="39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924200" y="8110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95400" y="43052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595920" y="4292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032080" y="365904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618240" y="4211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095600" y="457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464160" y="50594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951520" y="580392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315200" y="3997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559560" y="48909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737400" y="4998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78640" y="48434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9753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99880" y="364500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886040" y="419724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63040" y="456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731960" y="47005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219320" y="517212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83000" y="398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27360" y="42591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04840" y="4367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846440" y="42116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24316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914480" y="758880"/>
            <a:ext cx="665280" cy="1898640"/>
          </a:xfrm>
          <a:custGeom>
            <a:avLst/>
            <a:gdLst/>
            <a:ahLst/>
            <a:rect l="l" t="t" r="r" b="b"/>
            <a:pathLst>
              <a:path w="419" h="1196">
                <a:moveTo>
                  <a:pt x="0" y="1196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073160" y="77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61792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88360" y="2095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022000" y="17604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942160" y="137304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773680" y="1158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0584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691640" y="1568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91640" y="120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376320" y="2122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76320" y="1631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844640" y="3921120"/>
            <a:ext cx="324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88960" y="427680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952960" y="4233960"/>
            <a:ext cx="640080" cy="56808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924200" y="914400"/>
            <a:ext cx="704880" cy="1639800"/>
          </a:xfrm>
          <a:custGeom>
            <a:avLst/>
            <a:gdLst/>
            <a:ahLst/>
            <a:rect l="l" t="t" r="r" b="b"/>
            <a:pathLst>
              <a:path w="444" h="1033">
                <a:moveTo>
                  <a:pt x="2" y="1033"/>
                </a:moveTo>
                <a:lnTo>
                  <a:pt x="0" y="280"/>
                </a:lnTo>
                <a:lnTo>
                  <a:pt x="4" y="0"/>
                </a:lnTo>
                <a:lnTo>
                  <a:pt x="444" y="168"/>
                </a:lnTo>
                <a:lnTo>
                  <a:pt x="330" y="849"/>
                </a:lnTo>
                <a:lnTo>
                  <a:pt x="2" y="10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88360" y="2095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00472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908000" y="1400040"/>
            <a:ext cx="5040" cy="1266840"/>
          </a:xfrm>
          <a:custGeom>
            <a:avLst/>
            <a:gdLst/>
            <a:ahLst/>
            <a:rect l="l" t="t" r="r" b="b"/>
            <a:pathLst>
              <a:path w="3" h="798">
                <a:moveTo>
                  <a:pt x="0" y="798"/>
                </a:moveTo>
                <a:lnTo>
                  <a:pt x="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548400" y="1660680"/>
            <a:ext cx="6480" cy="628560"/>
          </a:xfrm>
          <a:custGeom>
            <a:avLst/>
            <a:gdLst/>
            <a:ahLst/>
            <a:rect l="l" t="t" r="r" b="b"/>
            <a:pathLst>
              <a:path w="4" h="396">
                <a:moveTo>
                  <a:pt x="4" y="0"/>
                </a:move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48400" y="1049400"/>
            <a:ext cx="6480" cy="603360"/>
          </a:xfrm>
          <a:custGeom>
            <a:avLst/>
            <a:gdLst/>
            <a:ahLst/>
            <a:rect l="l" t="t" r="r" b="b"/>
            <a:pathLst>
              <a:path w="4" h="380">
                <a:moveTo>
                  <a:pt x="0" y="0"/>
                </a:moveTo>
                <a:lnTo>
                  <a:pt x="4" y="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917720" y="774720"/>
            <a:ext cx="1440" cy="615960"/>
          </a:xfrm>
          <a:custGeom>
            <a:avLst/>
            <a:gdLst/>
            <a:ahLst/>
            <a:rect l="l" t="t" r="r" b="b"/>
            <a:pathLst>
              <a:path w="1" h="388">
                <a:moveTo>
                  <a:pt x="1" y="3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168960" y="17035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403280" y="11588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79560" y="5156280"/>
            <a:ext cx="520920" cy="685800"/>
          </a:xfrm>
          <a:custGeom>
            <a:avLst/>
            <a:gdLst/>
            <a:ahLst/>
            <a:rect l="l" t="t" r="r" b="b"/>
            <a:pathLst>
              <a:path w="328" h="432">
                <a:moveTo>
                  <a:pt x="176" y="432"/>
                </a:moveTo>
                <a:lnTo>
                  <a:pt x="328" y="312"/>
                </a:lnTo>
                <a:lnTo>
                  <a:pt x="8" y="0"/>
                </a:lnTo>
                <a:lnTo>
                  <a:pt x="0" y="394"/>
                </a:lnTo>
                <a:lnTo>
                  <a:pt x="176" y="4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298520" y="58006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643120" y="570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136520" y="4175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400040" y="46450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260360" y="45306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898640" y="5146560"/>
            <a:ext cx="628560" cy="628920"/>
          </a:xfrm>
          <a:custGeom>
            <a:avLst/>
            <a:gdLst/>
            <a:ahLst/>
            <a:rect l="l" t="t" r="r" b="b"/>
            <a:pathLst>
              <a:path w="396" h="396">
                <a:moveTo>
                  <a:pt x="396" y="382"/>
                </a:moveTo>
                <a:lnTo>
                  <a:pt x="4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280600" y="49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050920" y="5622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789200" y="50338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07080" y="3959280"/>
            <a:ext cx="142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-new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1155600" y="758880"/>
            <a:ext cx="71136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278000" y="1492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251000" y="72072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914480" y="4762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905120" y="42372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382120" y="79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63440" y="1996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763640" y="9349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15880" y="1519200"/>
            <a:ext cx="40032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30320" y="4986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08200" y="222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818400" y="135108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959520" y="2084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939000" y="131292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605720" y="4572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99240" y="404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8076600" y="773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757920" y="2571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445520" y="186840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161120" y="211608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24" y="91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207040" y="103500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29080" y="1768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89480" y="99684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978520" y="455760"/>
            <a:ext cx="712800" cy="174276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943600" y="403200"/>
            <a:ext cx="690480" cy="1900440"/>
          </a:xfrm>
          <a:custGeom>
            <a:avLst/>
            <a:gdLst/>
            <a:ahLst/>
            <a:rect l="l" t="t" r="r" b="b"/>
            <a:pathLst>
              <a:path w="435" h="1197">
                <a:moveTo>
                  <a:pt x="0" y="1197"/>
                </a:moveTo>
                <a:lnTo>
                  <a:pt x="19" y="398"/>
                </a:lnTo>
                <a:lnTo>
                  <a:pt x="43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433560" y="771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114880" y="2273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815080" y="154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467320" y="179532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935680" y="1652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275440" y="457200"/>
            <a:ext cx="66024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540560" y="4921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880320" y="78408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74760" y="5589720"/>
            <a:ext cx="302400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 moves along P, each time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 lower (another)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004000" y="2862360"/>
            <a:ext cx="30553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se are the same – where begin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meet is not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74760" y="2370240"/>
            <a:ext cx="2989080" cy="13500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A special case because it is the only case which has </a:t>
            </a:r>
            <a:r>
              <a:rPr b="1" i="1" lang="nl-NL" sz="1200" spc="-1" strike="noStrike" u="sng">
                <a:solidFill>
                  <a:srgbClr val="808080"/>
                </a:solidFill>
                <a:uFillTx/>
                <a:latin typeface="Arial"/>
              </a:rPr>
              <a:t>two</a:t>
            </a: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 relevant intersectio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y cannot be classified at other points, because we ignore the “from” case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7864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02992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175360" y="514512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16480" y="5878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295960" y="510696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969160" y="3949560"/>
            <a:ext cx="71568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962680" y="38973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439680" y="4265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897520" y="42861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237280" y="457848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969160" y="5791320"/>
            <a:ext cx="63468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800760" y="546084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941880" y="619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921360" y="542304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601040" y="3951360"/>
            <a:ext cx="716040" cy="148248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94560" y="389880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071920" y="4267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529400" y="4605480"/>
            <a:ext cx="1296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869160" y="489744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601040" y="57927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902480" y="3641760"/>
            <a:ext cx="115020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Same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equal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3606840"/>
            <a:ext cx="144000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,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y dashe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344600" y="417528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67440" y="72216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38400" y="424188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150920" y="1098720"/>
            <a:ext cx="71136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27296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332000" y="7272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225440" y="79380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077840" y="2289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442880" y="1827360"/>
            <a:ext cx="40032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447920" y="895320"/>
            <a:ext cx="374400" cy="349200"/>
          </a:xfrm>
          <a:custGeom>
            <a:avLst/>
            <a:gdLst/>
            <a:ahLst/>
            <a:rect l="l" t="t" r="r" b="b"/>
            <a:pathLst>
              <a:path w="236" h="220">
                <a:moveTo>
                  <a:pt x="236" y="32"/>
                </a:moveTo>
                <a:lnTo>
                  <a:pt x="232" y="220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23920" y="55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98800" y="20952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4632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758960" y="1274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758960" y="16081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377440" y="1131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124040" y="1149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038920" y="2142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961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505560" y="129240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03480" y="36576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842080" y="53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130400" y="4005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494400" y="15825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6645240" y="781200"/>
            <a:ext cx="722520" cy="180000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645240" y="135720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649920" y="73980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920960" y="41860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20960" y="4762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925640" y="4145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154160" y="112392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1276200" y="1857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249200" y="1085760"/>
            <a:ext cx="62892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903320" y="771480"/>
            <a:ext cx="72252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903320" y="136044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38068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062000" y="236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762200" y="16336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14440" y="188424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93788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2400" y="1890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908000" y="74304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124040" y="112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039640" y="2142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03840" y="3657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280" y="3979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659280" y="50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084720" y="110952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167520" y="140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640560" y="82692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616800" y="774720"/>
            <a:ext cx="679320" cy="1895400"/>
          </a:xfrm>
          <a:custGeom>
            <a:avLst/>
            <a:gdLst/>
            <a:ahLst/>
            <a:rect l="l" t="t" r="r" b="b"/>
            <a:pathLst>
              <a:path w="428" h="1194">
                <a:moveTo>
                  <a:pt x="0" y="1194"/>
                </a:moveTo>
                <a:lnTo>
                  <a:pt x="12" y="398"/>
                </a:lnTo>
                <a:lnTo>
                  <a:pt x="42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108200" y="1143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656400" y="8492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334280" y="573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91240" y="36669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80080" y="1071720"/>
            <a:ext cx="6480" cy="65700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67480" y="173196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489720" y="12859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489720" y="161928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023800" y="26028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914480" y="42544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895400" y="4202280"/>
            <a:ext cx="674640" cy="1895400"/>
          </a:xfrm>
          <a:custGeom>
            <a:avLst/>
            <a:gdLst/>
            <a:ahLst/>
            <a:rect l="l" t="t" r="r" b="b"/>
            <a:pathLst>
              <a:path w="425" h="1194">
                <a:moveTo>
                  <a:pt x="0" y="1194"/>
                </a:moveTo>
                <a:lnTo>
                  <a:pt x="9" y="398"/>
                </a:lnTo>
                <a:lnTo>
                  <a:pt x="42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930320" y="42768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608200" y="4000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141560" y="1098720"/>
            <a:ext cx="71100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26360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23660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900080" y="8668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890720" y="81432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368080" y="118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04940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749600" y="127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749600" y="16081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01840" y="1859040"/>
            <a:ext cx="39996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916280" y="8888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93800" y="612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89800" y="201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327320" y="414972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220760" y="421632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382120" y="457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909800" y="38908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898640" y="4246560"/>
            <a:ext cx="633600" cy="58572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046920" y="9936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940360" y="106056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101720" y="1415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629400" y="73512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618240" y="1090440"/>
            <a:ext cx="63360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659280" y="2897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570720" y="8175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910120" y="1109520"/>
            <a:ext cx="66060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086520" y="1684440"/>
            <a:ext cx="527040" cy="139356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168960" y="1978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581880" y="1646280"/>
            <a:ext cx="612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568920" y="2306520"/>
            <a:ext cx="6480" cy="92736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475320" y="21938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589120" y="637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839960" y="429408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179360" y="4586400"/>
            <a:ext cx="66060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347840" y="515772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574640" y="5904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849320" y="5119560"/>
            <a:ext cx="66672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744560" y="56707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130400" y="172260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251000" y="168444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069920" y="2943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757520" y="22399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473120" y="248760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32" y="169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852560" y="8636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192320" y="115560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916280" y="4636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905120" y="819000"/>
            <a:ext cx="63324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85920" y="1657440"/>
            <a:ext cx="1527120" cy="749160"/>
          </a:xfrm>
          <a:custGeom>
            <a:avLst/>
            <a:gdLst/>
            <a:ahLst/>
            <a:rect l="l" t="t" r="r" b="b"/>
            <a:pathLst>
              <a:path w="962" h="472">
                <a:moveTo>
                  <a:pt x="790" y="0"/>
                </a:moveTo>
                <a:lnTo>
                  <a:pt x="962" y="368"/>
                </a:lnTo>
                <a:lnTo>
                  <a:pt x="414" y="472"/>
                </a:lnTo>
                <a:lnTo>
                  <a:pt x="0" y="415"/>
                </a:lnTo>
                <a:lnTo>
                  <a:pt x="79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44480" y="218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7760" y="1663560"/>
            <a:ext cx="1622520" cy="662040"/>
          </a:xfrm>
          <a:custGeom>
            <a:avLst/>
            <a:gdLst/>
            <a:ahLst/>
            <a:rect l="l" t="t" r="r" b="b"/>
            <a:pathLst>
              <a:path w="1022" h="417">
                <a:moveTo>
                  <a:pt x="0" y="417"/>
                </a:moveTo>
                <a:lnTo>
                  <a:pt x="822" y="0"/>
                </a:lnTo>
                <a:lnTo>
                  <a:pt x="1022" y="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1296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076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280" y="16812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2200" y="16344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28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14680" y="1444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17560" y="1160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749840"/>
            <a:ext cx="1801800" cy="1181160"/>
          </a:xfrm>
          <a:custGeom>
            <a:avLst/>
            <a:gdLst/>
            <a:ahLst/>
            <a:rect l="l" t="t" r="r" b="b"/>
            <a:pathLst>
              <a:path w="1135" h="744">
                <a:moveTo>
                  <a:pt x="111" y="256"/>
                </a:moveTo>
                <a:lnTo>
                  <a:pt x="255" y="0"/>
                </a:lnTo>
                <a:lnTo>
                  <a:pt x="1135" y="24"/>
                </a:lnTo>
                <a:lnTo>
                  <a:pt x="1055" y="376"/>
                </a:lnTo>
                <a:lnTo>
                  <a:pt x="215" y="744"/>
                </a:lnTo>
                <a:lnTo>
                  <a:pt x="0" y="656"/>
                </a:lnTo>
                <a:lnTo>
                  <a:pt x="783" y="240"/>
                </a:lnTo>
                <a:lnTo>
                  <a:pt x="111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0760" y="513864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2920" y="78264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45120" y="1641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79440" y="2637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730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23120" y="145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69200" y="112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59440" y="166212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45120" y="1666800"/>
            <a:ext cx="1155960" cy="584280"/>
          </a:xfrm>
          <a:custGeom>
            <a:avLst/>
            <a:gdLst/>
            <a:ahLst/>
            <a:rect l="l" t="t" r="r" b="b"/>
            <a:pathLst>
              <a:path w="728" h="368">
                <a:moveTo>
                  <a:pt x="728" y="0"/>
                </a:moveTo>
                <a:lnTo>
                  <a:pt x="32" y="368"/>
                </a:lnTo>
                <a:lnTo>
                  <a:pt x="0" y="8"/>
                </a:lnTo>
                <a:lnTo>
                  <a:pt x="7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4312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4160" y="5157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87920" y="1417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93720" y="5313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6186600"/>
            <a:ext cx="1249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04120" y="2378160"/>
            <a:ext cx="8272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1176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6828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18240" y="420696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1480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86440" y="4076640"/>
            <a:ext cx="1801800" cy="1854360"/>
          </a:xfrm>
          <a:custGeom>
            <a:avLst/>
            <a:gdLst/>
            <a:ahLst/>
            <a:rect l="l" t="t" r="r" b="b"/>
            <a:pathLst>
              <a:path w="1135" h="1168">
                <a:moveTo>
                  <a:pt x="189" y="112"/>
                </a:moveTo>
                <a:lnTo>
                  <a:pt x="541" y="0"/>
                </a:lnTo>
                <a:lnTo>
                  <a:pt x="1135" y="448"/>
                </a:lnTo>
                <a:lnTo>
                  <a:pt x="1055" y="800"/>
                </a:lnTo>
                <a:lnTo>
                  <a:pt x="215" y="1168"/>
                </a:lnTo>
                <a:lnTo>
                  <a:pt x="0" y="1080"/>
                </a:lnTo>
                <a:lnTo>
                  <a:pt x="783" y="664"/>
                </a:lnTo>
                <a:lnTo>
                  <a:pt x="189" y="1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8280" y="4229280"/>
            <a:ext cx="1305000" cy="1571400"/>
          </a:xfrm>
          <a:custGeom>
            <a:avLst/>
            <a:gdLst/>
            <a:ahLst/>
            <a:rect l="l" t="t" r="r" b="b"/>
            <a:pathLst>
              <a:path w="822" h="990">
                <a:moveTo>
                  <a:pt x="0" y="990"/>
                </a:moveTo>
                <a:lnTo>
                  <a:pt x="822" y="573"/>
                </a:lnTo>
                <a:lnTo>
                  <a:pt x="20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58040" y="4614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5145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424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012000"/>
            <a:ext cx="826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No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order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cro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117440" y="115560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44520" y="106668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069560" y="294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751040" y="12682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972040" y="2479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945040" y="109044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770080" y="2967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257120" y="592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230480" y="4535640"/>
            <a:ext cx="622080" cy="215892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055520" y="6411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821200" y="116208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101600" y="4613400"/>
            <a:ext cx="73656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900080" y="425916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890720" y="42069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368080" y="4575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916280" y="428148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59380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620040" y="7714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620040" y="1360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709704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65460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624720" y="743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738440" y="47005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478560" y="1293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1924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1117440" y="167328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258920" y="2406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238400" y="163512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11240" y="47772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905120" y="42552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382120" y="793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839960" y="8143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179360" y="1106640"/>
            <a:ext cx="63684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911240" y="231948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829480" y="200664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970600" y="2739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950080" y="196848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629400" y="4968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622920" y="44460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100280" y="812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558120" y="11509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897520" y="1442880"/>
            <a:ext cx="636480" cy="54000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629400" y="233856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492360" y="239760"/>
            <a:ext cx="14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Handled elsewhere, just to verify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647040" y="80028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653160" y="7477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994360" y="685800"/>
            <a:ext cx="1247760" cy="2235240"/>
          </a:xfrm>
          <a:custGeom>
            <a:avLst/>
            <a:gdLst/>
            <a:ahLst/>
            <a:rect l="l" t="t" r="r" b="b"/>
            <a:pathLst>
              <a:path w="786" h="1408">
                <a:moveTo>
                  <a:pt x="786" y="48"/>
                </a:moveTo>
                <a:lnTo>
                  <a:pt x="376" y="416"/>
                </a:lnTo>
                <a:lnTo>
                  <a:pt x="402" y="1408"/>
                </a:lnTo>
                <a:lnTo>
                  <a:pt x="0" y="1072"/>
                </a:lnTo>
                <a:lnTo>
                  <a:pt x="48" y="0"/>
                </a:lnTo>
                <a:lnTo>
                  <a:pt x="786" y="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613560" y="69228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327440" y="11844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559560" y="128916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062400" y="2133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546960" y="39513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880240" y="4243320"/>
            <a:ext cx="608040" cy="2176560"/>
          </a:xfrm>
          <a:custGeom>
            <a:avLst/>
            <a:gdLst/>
            <a:ahLst/>
            <a:rect l="l" t="t" r="r" b="b"/>
            <a:pathLst>
              <a:path w="383" h="1371">
                <a:moveTo>
                  <a:pt x="362" y="0"/>
                </a:moveTo>
                <a:lnTo>
                  <a:pt x="383" y="371"/>
                </a:lnTo>
                <a:lnTo>
                  <a:pt x="371" y="1371"/>
                </a:lnTo>
                <a:lnTo>
                  <a:pt x="0" y="767"/>
                </a:lnTo>
                <a:lnTo>
                  <a:pt x="120" y="87"/>
                </a:lnTo>
                <a:lnTo>
                  <a:pt x="36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492960" y="4808520"/>
            <a:ext cx="14040" cy="161784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900120" y="4556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483240" y="41860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537240" y="3881520"/>
            <a:ext cx="3240" cy="92376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543720" y="48211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450120" y="475308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011640" y="5262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188440" y="712800"/>
            <a:ext cx="1960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qual, but not p1 ==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andled (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lef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right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925640" y="42735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932120" y="42210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206360" y="4260960"/>
            <a:ext cx="723960" cy="2133360"/>
          </a:xfrm>
          <a:custGeom>
            <a:avLst/>
            <a:gdLst/>
            <a:ahLst/>
            <a:rect l="l" t="t" r="r" b="b"/>
            <a:pathLst>
              <a:path w="456" h="1344">
                <a:moveTo>
                  <a:pt x="88" y="0"/>
                </a:moveTo>
                <a:lnTo>
                  <a:pt x="456" y="344"/>
                </a:lnTo>
                <a:lnTo>
                  <a:pt x="444" y="1344"/>
                </a:lnTo>
                <a:lnTo>
                  <a:pt x="40" y="1036"/>
                </a:lnTo>
                <a:lnTo>
                  <a:pt x="0" y="356"/>
                </a:lnTo>
                <a:lnTo>
                  <a:pt x="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282680" y="4210200"/>
            <a:ext cx="61596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06040" y="4657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838160" y="47624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284120" y="4653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540960" y="3743280"/>
            <a:ext cx="1311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i-pj meets qi-q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qj-qk ==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 pi-p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(==- mean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opposite eq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044800" y="4178160"/>
            <a:ext cx="1917720" cy="622440"/>
          </a:xfrm>
          <a:custGeom>
            <a:avLst/>
            <a:gdLst/>
            <a:ahLst/>
            <a:rect l="l" t="t" r="r" b="b"/>
            <a:pathLst>
              <a:path w="1208" h="392">
                <a:moveTo>
                  <a:pt x="1208" y="0"/>
                </a:moveTo>
                <a:lnTo>
                  <a:pt x="0" y="392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38608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1724400" y="5131080"/>
            <a:ext cx="344880" cy="262080"/>
            <a:chOff x="1724400" y="5131080"/>
            <a:chExt cx="344880" cy="262080"/>
          </a:xfrm>
        </p:grpSpPr>
        <p:sp>
          <p:nvSpPr>
            <p:cNvPr id="1448" name=""/>
            <p:cNvSpPr/>
            <p:nvPr/>
          </p:nvSpPr>
          <p:spPr>
            <a:xfrm rot="1857600">
              <a:off x="1717200" y="521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19593000">
              <a:off x="1717560" y="5227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68360" y="3848040"/>
            <a:ext cx="2448000" cy="265428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50880" y="3467160"/>
            <a:ext cx="2023920" cy="303372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55480" y="3724200"/>
            <a:ext cx="965520" cy="278460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42880" y="4508640"/>
            <a:ext cx="1019160" cy="1993680"/>
          </a:xfrm>
          <a:custGeom>
            <a:avLst/>
            <a:gdLst/>
            <a:ahLst/>
            <a:rect l="l" t="t" r="r" b="b"/>
            <a:pathLst>
              <a:path w="642" h="1256">
                <a:moveTo>
                  <a:pt x="642" y="1256"/>
                </a:moveTo>
                <a:lnTo>
                  <a:pt x="639" y="0"/>
                </a:lnTo>
                <a:lnTo>
                  <a:pt x="0" y="4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370440" y="1760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02480" y="36496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044320" y="1792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314360" y="4076640"/>
            <a:ext cx="1457280" cy="2300400"/>
          </a:xfrm>
          <a:custGeom>
            <a:avLst/>
            <a:gdLst/>
            <a:ahLst/>
            <a:rect l="l" t="t" r="r" b="b"/>
            <a:pathLst>
              <a:path w="918" h="1449">
                <a:moveTo>
                  <a:pt x="403" y="1449"/>
                </a:moveTo>
                <a:lnTo>
                  <a:pt x="404" y="465"/>
                </a:lnTo>
                <a:lnTo>
                  <a:pt x="0" y="120"/>
                </a:lnTo>
                <a:lnTo>
                  <a:pt x="288" y="0"/>
                </a:lnTo>
                <a:lnTo>
                  <a:pt x="918" y="376"/>
                </a:lnTo>
                <a:lnTo>
                  <a:pt x="672" y="1440"/>
                </a:lnTo>
                <a:lnTo>
                  <a:pt x="403" y="14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212840" y="4216320"/>
            <a:ext cx="674640" cy="2179800"/>
          </a:xfrm>
          <a:custGeom>
            <a:avLst/>
            <a:gdLst/>
            <a:ahLst/>
            <a:rect l="l" t="t" r="r" b="b"/>
            <a:pathLst>
              <a:path w="425" h="1373">
                <a:moveTo>
                  <a:pt x="425" y="1373"/>
                </a:moveTo>
                <a:lnTo>
                  <a:pt x="423" y="397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441440" y="4140360"/>
            <a:ext cx="1089000" cy="2247840"/>
          </a:xfrm>
          <a:custGeom>
            <a:avLst/>
            <a:gdLst/>
            <a:ahLst/>
            <a:rect l="l" t="t" r="r" b="b"/>
            <a:pathLst>
              <a:path w="686" h="1416">
                <a:moveTo>
                  <a:pt x="328" y="0"/>
                </a:moveTo>
                <a:lnTo>
                  <a:pt x="0" y="120"/>
                </a:lnTo>
                <a:lnTo>
                  <a:pt x="326" y="416"/>
                </a:lnTo>
                <a:lnTo>
                  <a:pt x="314" y="1416"/>
                </a:lnTo>
                <a:lnTo>
                  <a:pt x="686" y="1340"/>
                </a:lnTo>
                <a:lnTo>
                  <a:pt x="632" y="360"/>
                </a:lnTo>
                <a:lnTo>
                  <a:pt x="3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301760" y="4216320"/>
            <a:ext cx="625320" cy="2178000"/>
          </a:xfrm>
          <a:custGeom>
            <a:avLst/>
            <a:gdLst/>
            <a:ahLst/>
            <a:rect l="l" t="t" r="r" b="b"/>
            <a:pathLst>
              <a:path w="394" h="1372">
                <a:moveTo>
                  <a:pt x="0" y="0"/>
                </a:moveTo>
                <a:lnTo>
                  <a:pt x="390" y="372"/>
                </a:lnTo>
                <a:lnTo>
                  <a:pt x="394" y="13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634480" y="4651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66960" y="47563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408040" y="6099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058080" y="647640"/>
            <a:ext cx="1380960" cy="2290680"/>
          </a:xfrm>
          <a:custGeom>
            <a:avLst/>
            <a:gdLst/>
            <a:ahLst/>
            <a:rect l="l" t="t" r="r" b="b"/>
            <a:pathLst>
              <a:path w="870" h="1443">
                <a:moveTo>
                  <a:pt x="355" y="1443"/>
                </a:moveTo>
                <a:lnTo>
                  <a:pt x="356" y="459"/>
                </a:lnTo>
                <a:lnTo>
                  <a:pt x="0" y="128"/>
                </a:lnTo>
                <a:lnTo>
                  <a:pt x="280" y="0"/>
                </a:lnTo>
                <a:lnTo>
                  <a:pt x="870" y="370"/>
                </a:lnTo>
                <a:lnTo>
                  <a:pt x="641" y="1347"/>
                </a:lnTo>
                <a:lnTo>
                  <a:pt x="355" y="144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956200" y="749160"/>
            <a:ext cx="674640" cy="2208240"/>
          </a:xfrm>
          <a:custGeom>
            <a:avLst/>
            <a:gdLst/>
            <a:ahLst/>
            <a:rect l="l" t="t" r="r" b="b"/>
            <a:pathLst>
              <a:path w="425" h="1391">
                <a:moveTo>
                  <a:pt x="425" y="1391"/>
                </a:moveTo>
                <a:lnTo>
                  <a:pt x="423" y="41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943600" y="876240"/>
            <a:ext cx="1257480" cy="2073240"/>
          </a:xfrm>
          <a:custGeom>
            <a:avLst/>
            <a:gdLst/>
            <a:ahLst/>
            <a:rect l="l" t="t" r="r" b="b"/>
            <a:pathLst>
              <a:path w="792" h="1306">
                <a:moveTo>
                  <a:pt x="792" y="176"/>
                </a:moveTo>
                <a:lnTo>
                  <a:pt x="312" y="0"/>
                </a:lnTo>
                <a:lnTo>
                  <a:pt x="0" y="280"/>
                </a:lnTo>
                <a:lnTo>
                  <a:pt x="128" y="584"/>
                </a:lnTo>
                <a:lnTo>
                  <a:pt x="400" y="288"/>
                </a:lnTo>
                <a:lnTo>
                  <a:pt x="418" y="1306"/>
                </a:lnTo>
                <a:lnTo>
                  <a:pt x="790" y="1230"/>
                </a:lnTo>
                <a:lnTo>
                  <a:pt x="792" y="1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981760" y="1368360"/>
            <a:ext cx="612720" cy="1587600"/>
          </a:xfrm>
          <a:custGeom>
            <a:avLst/>
            <a:gdLst/>
            <a:ahLst/>
            <a:rect l="l" t="t" r="r" b="b"/>
            <a:pathLst>
              <a:path w="386" h="1000">
                <a:moveTo>
                  <a:pt x="0" y="418"/>
                </a:moveTo>
                <a:lnTo>
                  <a:pt x="382" y="0"/>
                </a:lnTo>
                <a:lnTo>
                  <a:pt x="386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803920" y="1954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867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193760" y="876240"/>
            <a:ext cx="1650960" cy="209556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308240" y="546120"/>
            <a:ext cx="1365120" cy="239400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244520" y="749160"/>
            <a:ext cx="650880" cy="219708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106640" y="52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063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244520" y="1398600"/>
            <a:ext cx="687600" cy="1549440"/>
          </a:xfrm>
          <a:custGeom>
            <a:avLst/>
            <a:gdLst/>
            <a:ahLst/>
            <a:rect l="l" t="t" r="r" b="b"/>
            <a:pathLst>
              <a:path w="433" h="976">
                <a:moveTo>
                  <a:pt x="433" y="976"/>
                </a:moveTo>
                <a:lnTo>
                  <a:pt x="431" y="0"/>
                </a:lnTo>
                <a:lnTo>
                  <a:pt x="0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905040" y="40053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637440" y="106200"/>
            <a:ext cx="820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943280" y="4863960"/>
            <a:ext cx="1574640" cy="1511280"/>
          </a:xfrm>
          <a:custGeom>
            <a:avLst/>
            <a:gdLst/>
            <a:ahLst/>
            <a:rect l="l" t="t" r="r" b="b"/>
            <a:pathLst>
              <a:path w="992" h="952">
                <a:moveTo>
                  <a:pt x="0" y="0"/>
                </a:moveTo>
                <a:lnTo>
                  <a:pt x="992" y="95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309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561840" y="5805360"/>
            <a:ext cx="37378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ecause first Pk // Q2 is checked on “collinearity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“opposite collinear” case should be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correctly (resulting in case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LR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463920" y="605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37080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065200" y="1681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621480" y="82872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627960" y="7761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607080" y="1362240"/>
            <a:ext cx="590760" cy="1587240"/>
          </a:xfrm>
          <a:custGeom>
            <a:avLst/>
            <a:gdLst/>
            <a:ahLst/>
            <a:rect l="l" t="t" r="r" b="b"/>
            <a:pathLst>
              <a:path w="372" h="1000">
                <a:moveTo>
                  <a:pt x="366" y="350"/>
                </a:moveTo>
                <a:lnTo>
                  <a:pt x="12" y="0"/>
                </a:lnTo>
                <a:lnTo>
                  <a:pt x="0" y="1000"/>
                </a:lnTo>
                <a:lnTo>
                  <a:pt x="372" y="924"/>
                </a:lnTo>
                <a:lnTo>
                  <a:pt x="366" y="35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588000" y="1368360"/>
            <a:ext cx="701640" cy="1587600"/>
          </a:xfrm>
          <a:custGeom>
            <a:avLst/>
            <a:gdLst/>
            <a:ahLst/>
            <a:rect l="l" t="t" r="r" b="b"/>
            <a:pathLst>
              <a:path w="442" h="1000">
                <a:moveTo>
                  <a:pt x="442" y="410"/>
                </a:moveTo>
                <a:lnTo>
                  <a:pt x="0" y="0"/>
                </a:lnTo>
                <a:lnTo>
                  <a:pt x="4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327800" y="736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354800" y="1773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96360" y="363708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922400" y="1366920"/>
            <a:ext cx="922320" cy="1604880"/>
          </a:xfrm>
          <a:custGeom>
            <a:avLst/>
            <a:gdLst/>
            <a:ahLst/>
            <a:rect l="l" t="t" r="r" b="b"/>
            <a:pathLst>
              <a:path w="581" h="1011">
                <a:moveTo>
                  <a:pt x="0" y="984"/>
                </a:moveTo>
                <a:lnTo>
                  <a:pt x="1" y="0"/>
                </a:lnTo>
                <a:lnTo>
                  <a:pt x="349" y="347"/>
                </a:lnTo>
                <a:lnTo>
                  <a:pt x="581" y="1011"/>
                </a:lnTo>
                <a:lnTo>
                  <a:pt x="0" y="9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928880" y="1398600"/>
            <a:ext cx="636480" cy="1549440"/>
          </a:xfrm>
          <a:custGeom>
            <a:avLst/>
            <a:gdLst/>
            <a:ahLst/>
            <a:rect l="l" t="t" r="r" b="b"/>
            <a:pathLst>
              <a:path w="401" h="976">
                <a:moveTo>
                  <a:pt x="2" y="976"/>
                </a:moveTo>
                <a:lnTo>
                  <a:pt x="0" y="0"/>
                </a:lnTo>
                <a:lnTo>
                  <a:pt x="401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908000" y="825480"/>
            <a:ext cx="809640" cy="2114640"/>
          </a:xfrm>
          <a:custGeom>
            <a:avLst/>
            <a:gdLst/>
            <a:ahLst/>
            <a:rect l="l" t="t" r="r" b="b"/>
            <a:pathLst>
              <a:path w="510" h="1332">
                <a:moveTo>
                  <a:pt x="510" y="296"/>
                </a:moveTo>
                <a:lnTo>
                  <a:pt x="366" y="0"/>
                </a:lnTo>
                <a:lnTo>
                  <a:pt x="12" y="332"/>
                </a:lnTo>
                <a:lnTo>
                  <a:pt x="0" y="1332"/>
                </a:lnTo>
                <a:lnTo>
                  <a:pt x="372" y="1256"/>
                </a:lnTo>
                <a:lnTo>
                  <a:pt x="510" y="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889280" y="749160"/>
            <a:ext cx="676080" cy="2197080"/>
          </a:xfrm>
          <a:custGeom>
            <a:avLst/>
            <a:gdLst/>
            <a:ahLst/>
            <a:rect l="l" t="t" r="r" b="b"/>
            <a:pathLst>
              <a:path w="426" h="1384">
                <a:moveTo>
                  <a:pt x="426" y="0"/>
                </a:moveTo>
                <a:lnTo>
                  <a:pt x="0" y="384"/>
                </a:lnTo>
                <a:lnTo>
                  <a:pt x="4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41128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655720" y="1763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900080" y="42879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35280" y="42354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08000" y="4249800"/>
            <a:ext cx="609840" cy="2158920"/>
          </a:xfrm>
          <a:custGeom>
            <a:avLst/>
            <a:gdLst/>
            <a:ahLst/>
            <a:rect l="l" t="t" r="r" b="b"/>
            <a:pathLst>
              <a:path w="384" h="1360">
                <a:moveTo>
                  <a:pt x="384" y="0"/>
                </a:moveTo>
                <a:lnTo>
                  <a:pt x="12" y="360"/>
                </a:lnTo>
                <a:lnTo>
                  <a:pt x="0" y="1360"/>
                </a:lnTo>
                <a:lnTo>
                  <a:pt x="372" y="1284"/>
                </a:lnTo>
                <a:lnTo>
                  <a:pt x="3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895400" y="421812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5804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81296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35404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637440" y="106200"/>
            <a:ext cx="96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54160" y="4863960"/>
            <a:ext cx="1638000" cy="1536840"/>
          </a:xfrm>
          <a:custGeom>
            <a:avLst/>
            <a:gdLst/>
            <a:ahLst/>
            <a:rect l="l" t="t" r="r" b="b"/>
            <a:pathLst>
              <a:path w="1032" h="968">
                <a:moveTo>
                  <a:pt x="1032" y="0"/>
                </a:moveTo>
                <a:lnTo>
                  <a:pt x="0" y="96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225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57040" y="602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1900080" y="825480"/>
            <a:ext cx="817560" cy="210996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06560" y="773280"/>
            <a:ext cx="66060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320840" y="812880"/>
            <a:ext cx="1155600" cy="2133360"/>
          </a:xfrm>
          <a:custGeom>
            <a:avLst/>
            <a:gdLst/>
            <a:ahLst/>
            <a:rect l="l" t="t" r="r" b="b"/>
            <a:pathLst>
              <a:path w="728" h="1344">
                <a:moveTo>
                  <a:pt x="0" y="0"/>
                </a:moveTo>
                <a:lnTo>
                  <a:pt x="368" y="344"/>
                </a:lnTo>
                <a:lnTo>
                  <a:pt x="356" y="1344"/>
                </a:lnTo>
                <a:lnTo>
                  <a:pt x="728" y="1268"/>
                </a:lnTo>
                <a:lnTo>
                  <a:pt x="600" y="4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257480" y="762120"/>
            <a:ext cx="61560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89800" y="1634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5804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812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064840" y="16812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704960" y="88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06848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30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659640" y="39387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567480" y="4230720"/>
            <a:ext cx="812880" cy="2176560"/>
          </a:xfrm>
          <a:custGeom>
            <a:avLst/>
            <a:gdLst/>
            <a:ahLst/>
            <a:rect l="l" t="t" r="r" b="b"/>
            <a:pathLst>
              <a:path w="512" h="1371">
                <a:moveTo>
                  <a:pt x="0" y="0"/>
                </a:moveTo>
                <a:lnTo>
                  <a:pt x="21" y="371"/>
                </a:lnTo>
                <a:lnTo>
                  <a:pt x="9" y="1371"/>
                </a:lnTo>
                <a:lnTo>
                  <a:pt x="512" y="1116"/>
                </a:lnTo>
                <a:lnTo>
                  <a:pt x="124" y="12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605640" y="4795920"/>
            <a:ext cx="14400" cy="161748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7012800" y="4543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595920" y="41734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649920" y="3868560"/>
            <a:ext cx="3240" cy="92412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656400" y="48085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562800" y="474012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203960" y="587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017320" y="359892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058080" y="622440"/>
            <a:ext cx="1393560" cy="2313000"/>
          </a:xfrm>
          <a:custGeom>
            <a:avLst/>
            <a:gdLst/>
            <a:ahLst/>
            <a:rect l="l" t="t" r="r" b="b"/>
            <a:pathLst>
              <a:path w="878" h="1457">
                <a:moveTo>
                  <a:pt x="363" y="1457"/>
                </a:moveTo>
                <a:lnTo>
                  <a:pt x="364" y="473"/>
                </a:lnTo>
                <a:lnTo>
                  <a:pt x="0" y="136"/>
                </a:lnTo>
                <a:lnTo>
                  <a:pt x="320" y="0"/>
                </a:lnTo>
                <a:lnTo>
                  <a:pt x="878" y="384"/>
                </a:lnTo>
                <a:lnTo>
                  <a:pt x="649" y="1361"/>
                </a:lnTo>
                <a:lnTo>
                  <a:pt x="363" y="145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931000" y="762120"/>
            <a:ext cx="712800" cy="2192040"/>
          </a:xfrm>
          <a:custGeom>
            <a:avLst/>
            <a:gdLst/>
            <a:ahLst/>
            <a:rect l="l" t="t" r="r" b="b"/>
            <a:pathLst>
              <a:path w="449" h="1381">
                <a:moveTo>
                  <a:pt x="449" y="1381"/>
                </a:moveTo>
                <a:lnTo>
                  <a:pt x="447" y="40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620040" y="800280"/>
            <a:ext cx="771480" cy="2145960"/>
          </a:xfrm>
          <a:custGeom>
            <a:avLst/>
            <a:gdLst/>
            <a:ahLst/>
            <a:rect l="l" t="t" r="r" b="b"/>
            <a:pathLst>
              <a:path w="486" h="1352">
                <a:moveTo>
                  <a:pt x="358" y="0"/>
                </a:moveTo>
                <a:lnTo>
                  <a:pt x="12" y="352"/>
                </a:lnTo>
                <a:lnTo>
                  <a:pt x="0" y="1352"/>
                </a:lnTo>
                <a:lnTo>
                  <a:pt x="486" y="1280"/>
                </a:lnTo>
                <a:lnTo>
                  <a:pt x="35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6600960" y="762120"/>
            <a:ext cx="676080" cy="2190600"/>
          </a:xfrm>
          <a:custGeom>
            <a:avLst/>
            <a:gdLst/>
            <a:ahLst/>
            <a:rect l="l" t="t" r="r" b="b"/>
            <a:pathLst>
              <a:path w="426" h="1380">
                <a:moveTo>
                  <a:pt x="426" y="0"/>
                </a:moveTo>
                <a:lnTo>
                  <a:pt x="0" y="380"/>
                </a:lnTo>
                <a:lnTo>
                  <a:pt x="4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341400" y="765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546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189560" y="252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80212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364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8400" y="3962520"/>
            <a:ext cx="865440" cy="2435040"/>
          </a:xfrm>
          <a:custGeom>
            <a:avLst/>
            <a:gdLst/>
            <a:ahLst/>
            <a:rect l="l" t="t" r="r" b="b"/>
            <a:pathLst>
              <a:path w="545" h="1534">
                <a:moveTo>
                  <a:pt x="30" y="1534"/>
                </a:moveTo>
                <a:lnTo>
                  <a:pt x="31" y="550"/>
                </a:lnTo>
                <a:lnTo>
                  <a:pt x="0" y="0"/>
                </a:lnTo>
                <a:lnTo>
                  <a:pt x="360" y="208"/>
                </a:lnTo>
                <a:lnTo>
                  <a:pt x="545" y="461"/>
                </a:lnTo>
                <a:lnTo>
                  <a:pt x="316" y="1438"/>
                </a:lnTo>
                <a:lnTo>
                  <a:pt x="30" y="15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851120" y="3936960"/>
            <a:ext cx="17280" cy="2479680"/>
          </a:xfrm>
          <a:custGeom>
            <a:avLst/>
            <a:gdLst/>
            <a:ahLst/>
            <a:rect l="l" t="t" r="r" b="b"/>
            <a:pathLst>
              <a:path w="11" h="1562">
                <a:moveTo>
                  <a:pt x="2" y="1562"/>
                </a:moveTo>
                <a:lnTo>
                  <a:pt x="0" y="586"/>
                </a:ln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924200" y="4013280"/>
            <a:ext cx="590400" cy="2395440"/>
          </a:xfrm>
          <a:custGeom>
            <a:avLst/>
            <a:gdLst/>
            <a:ahLst/>
            <a:rect l="l" t="t" r="r" b="b"/>
            <a:pathLst>
              <a:path w="372" h="1509">
                <a:moveTo>
                  <a:pt x="5" y="16"/>
                </a:moveTo>
                <a:lnTo>
                  <a:pt x="12" y="509"/>
                </a:lnTo>
                <a:lnTo>
                  <a:pt x="0" y="1509"/>
                </a:lnTo>
                <a:lnTo>
                  <a:pt x="372" y="1433"/>
                </a:lnTo>
                <a:lnTo>
                  <a:pt x="245" y="0"/>
                </a:lnTo>
                <a:lnTo>
                  <a:pt x="5" y="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911240" y="3911760"/>
            <a:ext cx="20880" cy="2541600"/>
          </a:xfrm>
          <a:custGeom>
            <a:avLst/>
            <a:gdLst/>
            <a:ahLst/>
            <a:rect l="l" t="t" r="r" b="b"/>
            <a:pathLst>
              <a:path w="13" h="1601">
                <a:moveTo>
                  <a:pt x="13" y="0"/>
                </a:moveTo>
                <a:lnTo>
                  <a:pt x="0" y="601"/>
                </a:lnTo>
                <a:lnTo>
                  <a:pt x="4" y="160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5966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82880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36988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29400" y="364500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638880" y="106200"/>
            <a:ext cx="98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/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900080" y="812880"/>
            <a:ext cx="71460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56600" y="2660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6560" y="7603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98760" y="2117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6480" y="1366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54000" y="1276200"/>
            <a:ext cx="1589040" cy="1047960"/>
          </a:xfrm>
          <a:custGeom>
            <a:avLst/>
            <a:gdLst/>
            <a:ahLst/>
            <a:rect l="l" t="t" r="r" b="b"/>
            <a:pathLst>
              <a:path w="1001" h="660">
                <a:moveTo>
                  <a:pt x="1001" y="245"/>
                </a:moveTo>
                <a:lnTo>
                  <a:pt x="936" y="0"/>
                </a:lnTo>
                <a:lnTo>
                  <a:pt x="0" y="328"/>
                </a:lnTo>
                <a:lnTo>
                  <a:pt x="211" y="660"/>
                </a:lnTo>
                <a:lnTo>
                  <a:pt x="1001" y="2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5840" y="1671480"/>
            <a:ext cx="1640160" cy="633600"/>
          </a:xfrm>
          <a:custGeom>
            <a:avLst/>
            <a:gdLst/>
            <a:ahLst/>
            <a:rect l="l" t="t" r="r" b="b"/>
            <a:pathLst>
              <a:path w="1033" h="399">
                <a:moveTo>
                  <a:pt x="0" y="15"/>
                </a:moveTo>
                <a:lnTo>
                  <a:pt x="216" y="399"/>
                </a:lnTo>
                <a:lnTo>
                  <a:pt x="103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440" y="11268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68280" y="1747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interior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ouch in the middle, ‘m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9440" y="3873600"/>
            <a:ext cx="851040" cy="2616120"/>
          </a:xfrm>
          <a:custGeom>
            <a:avLst/>
            <a:gdLst/>
            <a:ahLst/>
            <a:rect l="l" t="t" r="r" b="b"/>
            <a:pathLst>
              <a:path w="536" h="1648">
                <a:moveTo>
                  <a:pt x="15" y="1648"/>
                </a:moveTo>
                <a:lnTo>
                  <a:pt x="0" y="0"/>
                </a:lnTo>
                <a:lnTo>
                  <a:pt x="528" y="168"/>
                </a:lnTo>
                <a:lnTo>
                  <a:pt x="536" y="1478"/>
                </a:lnTo>
                <a:lnTo>
                  <a:pt x="15" y="16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66720" y="3773520"/>
            <a:ext cx="6480" cy="2749680"/>
          </a:xfrm>
          <a:custGeom>
            <a:avLst/>
            <a:gdLst/>
            <a:ahLst/>
            <a:rect l="l" t="t" r="r" b="b"/>
            <a:pathLst>
              <a:path w="2" h="976">
                <a:moveTo>
                  <a:pt x="2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85920" y="2004840"/>
            <a:ext cx="1119240" cy="492120"/>
          </a:xfrm>
          <a:custGeom>
            <a:avLst/>
            <a:gdLst/>
            <a:ahLst/>
            <a:rect l="l" t="t" r="r" b="b"/>
            <a:pathLst>
              <a:path w="705" h="310">
                <a:moveTo>
                  <a:pt x="376" y="0"/>
                </a:moveTo>
                <a:lnTo>
                  <a:pt x="705" y="163"/>
                </a:lnTo>
                <a:lnTo>
                  <a:pt x="612" y="280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95360" y="2265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6960" y="1214280"/>
            <a:ext cx="1065240" cy="1279800"/>
          </a:xfrm>
          <a:custGeom>
            <a:avLst/>
            <a:gdLst/>
            <a:ahLst/>
            <a:rect l="l" t="t" r="r" b="b"/>
            <a:pathLst>
              <a:path w="671" h="806">
                <a:moveTo>
                  <a:pt x="376" y="496"/>
                </a:moveTo>
                <a:lnTo>
                  <a:pt x="83" y="198"/>
                </a:lnTo>
                <a:lnTo>
                  <a:pt x="413" y="0"/>
                </a:lnTo>
                <a:lnTo>
                  <a:pt x="671" y="288"/>
                </a:lnTo>
                <a:lnTo>
                  <a:pt x="551" y="744"/>
                </a:lnTo>
                <a:lnTo>
                  <a:pt x="108" y="806"/>
                </a:lnTo>
                <a:lnTo>
                  <a:pt x="0" y="692"/>
                </a:lnTo>
                <a:lnTo>
                  <a:pt x="376" y="4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77080" y="1376280"/>
            <a:ext cx="64908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06440" y="5118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9840" y="4835520"/>
            <a:ext cx="64944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8280" y="4863960"/>
            <a:ext cx="584280" cy="870120"/>
          </a:xfrm>
          <a:custGeom>
            <a:avLst/>
            <a:gdLst/>
            <a:ahLst/>
            <a:rect l="l" t="t" r="r" b="b"/>
            <a:pathLst>
              <a:path w="368" h="548">
                <a:moveTo>
                  <a:pt x="0" y="0"/>
                </a:moveTo>
                <a:lnTo>
                  <a:pt x="368" y="364"/>
                </a:lnTo>
                <a:lnTo>
                  <a:pt x="32" y="54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640" y="16812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02560" y="16344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7640" y="357336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4312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39800" y="13460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880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2140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9440" y="571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30520" y="4788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6021360"/>
            <a:ext cx="19432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registered, to know if polygons touch, but ignored for tra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85920" y="1676520"/>
            <a:ext cx="1219320" cy="639720"/>
          </a:xfrm>
          <a:custGeom>
            <a:avLst/>
            <a:gdLst/>
            <a:ahLst/>
            <a:rect l="l" t="t" r="r" b="b"/>
            <a:pathLst>
              <a:path w="768" h="403">
                <a:moveTo>
                  <a:pt x="376" y="207"/>
                </a:moveTo>
                <a:lnTo>
                  <a:pt x="705" y="370"/>
                </a:lnTo>
                <a:lnTo>
                  <a:pt x="768" y="168"/>
                </a:lnTo>
                <a:lnTo>
                  <a:pt x="390" y="0"/>
                </a:lnTo>
                <a:lnTo>
                  <a:pt x="54" y="114"/>
                </a:lnTo>
                <a:lnTo>
                  <a:pt x="0" y="403"/>
                </a:lnTo>
                <a:lnTo>
                  <a:pt x="376" y="2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3840" y="1447920"/>
            <a:ext cx="692280" cy="828720"/>
          </a:xfrm>
          <a:custGeom>
            <a:avLst/>
            <a:gdLst/>
            <a:ahLst/>
            <a:rect l="l" t="t" r="r" b="b"/>
            <a:pathLst>
              <a:path w="436" h="522">
                <a:moveTo>
                  <a:pt x="0" y="349"/>
                </a:moveTo>
                <a:lnTo>
                  <a:pt x="364" y="0"/>
                </a:lnTo>
                <a:lnTo>
                  <a:pt x="436" y="522"/>
                </a:lnTo>
                <a:lnTo>
                  <a:pt x="0" y="34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6160" y="1371600"/>
            <a:ext cx="650880" cy="942840"/>
          </a:xfrm>
          <a:custGeom>
            <a:avLst/>
            <a:gdLst/>
            <a:ahLst/>
            <a:rect l="l" t="t" r="r" b="b"/>
            <a:pathLst>
              <a:path w="410" h="594">
                <a:moveTo>
                  <a:pt x="410" y="594"/>
                </a:moveTo>
                <a:lnTo>
                  <a:pt x="0" y="392"/>
                </a:lnTo>
                <a:lnTo>
                  <a:pt x="4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87240" y="5608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89280" y="4809960"/>
            <a:ext cx="691920" cy="971640"/>
          </a:xfrm>
          <a:custGeom>
            <a:avLst/>
            <a:gdLst/>
            <a:ahLst/>
            <a:rect l="l" t="t" r="r" b="b"/>
            <a:pathLst>
              <a:path w="436" h="612">
                <a:moveTo>
                  <a:pt x="436" y="612"/>
                </a:moveTo>
                <a:lnTo>
                  <a:pt x="0" y="405"/>
                </a:lnTo>
                <a:lnTo>
                  <a:pt x="4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19040" y="4848120"/>
            <a:ext cx="1186200" cy="1181160"/>
          </a:xfrm>
          <a:custGeom>
            <a:avLst/>
            <a:gdLst/>
            <a:ahLst/>
            <a:rect l="l" t="t" r="r" b="b"/>
            <a:pathLst>
              <a:path w="747" h="744">
                <a:moveTo>
                  <a:pt x="747" y="0"/>
                </a:moveTo>
                <a:lnTo>
                  <a:pt x="336" y="374"/>
                </a:lnTo>
                <a:lnTo>
                  <a:pt x="687" y="540"/>
                </a:lnTo>
                <a:lnTo>
                  <a:pt x="345" y="744"/>
                </a:lnTo>
                <a:lnTo>
                  <a:pt x="0" y="558"/>
                </a:lnTo>
                <a:lnTo>
                  <a:pt x="243" y="36"/>
                </a:lnTo>
                <a:lnTo>
                  <a:pt x="74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8000" y="1681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02920" y="1634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8000" y="357336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89160" y="227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39800" y="1346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928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2312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0520" y="57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68320" y="486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25560" y="53737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5889600"/>
            <a:ext cx="1943280" cy="80244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Intersection should switch from source, so from green it should take blue, and v.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85920" y="1746360"/>
            <a:ext cx="1038240" cy="1054080"/>
          </a:xfrm>
          <a:custGeom>
            <a:avLst/>
            <a:gdLst/>
            <a:ahLst/>
            <a:rect l="l" t="t" r="r" b="b"/>
            <a:pathLst>
              <a:path w="654" h="664">
                <a:moveTo>
                  <a:pt x="376" y="354"/>
                </a:moveTo>
                <a:lnTo>
                  <a:pt x="390" y="0"/>
                </a:lnTo>
                <a:lnTo>
                  <a:pt x="654" y="251"/>
                </a:lnTo>
                <a:lnTo>
                  <a:pt x="612" y="634"/>
                </a:lnTo>
                <a:lnTo>
                  <a:pt x="108" y="664"/>
                </a:lnTo>
                <a:lnTo>
                  <a:pt x="0" y="550"/>
                </a:lnTo>
                <a:lnTo>
                  <a:pt x="376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95360" y="2568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8212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47760" y="1708200"/>
            <a:ext cx="644400" cy="920880"/>
          </a:xfrm>
          <a:custGeom>
            <a:avLst/>
            <a:gdLst/>
            <a:ahLst/>
            <a:rect l="l" t="t" r="r" b="b"/>
            <a:pathLst>
              <a:path w="406" h="580">
                <a:moveTo>
                  <a:pt x="0" y="580"/>
                </a:moveTo>
                <a:lnTo>
                  <a:pt x="402" y="373"/>
                </a:lnTo>
                <a:lnTo>
                  <a:pt x="4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3440" y="1690560"/>
            <a:ext cx="603360" cy="551160"/>
          </a:xfrm>
          <a:custGeom>
            <a:avLst/>
            <a:gdLst/>
            <a:ahLst/>
            <a:rect l="l" t="t" r="r" b="b"/>
            <a:pathLst>
              <a:path w="380" h="347">
                <a:moveTo>
                  <a:pt x="376" y="0"/>
                </a:moveTo>
                <a:lnTo>
                  <a:pt x="380" y="347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22880" y="1951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9236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75280" y="1682640"/>
            <a:ext cx="654120" cy="641520"/>
          </a:xfrm>
          <a:custGeom>
            <a:avLst/>
            <a:gdLst/>
            <a:ahLst/>
            <a:rect l="l" t="t" r="r" b="b"/>
            <a:pathLst>
              <a:path w="412" h="404">
                <a:moveTo>
                  <a:pt x="0" y="207"/>
                </a:moveTo>
                <a:lnTo>
                  <a:pt x="402" y="0"/>
                </a:lnTo>
                <a:lnTo>
                  <a:pt x="412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7360" y="16812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11560" y="163440"/>
            <a:ext cx="13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16714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460200" y="1810080"/>
            <a:ext cx="344880" cy="262080"/>
            <a:chOff x="6460200" y="1810080"/>
            <a:chExt cx="344880" cy="262080"/>
          </a:xfrm>
        </p:grpSpPr>
        <p:sp>
          <p:nvSpPr>
            <p:cNvPr id="312" name=""/>
            <p:cNvSpPr/>
            <p:nvPr/>
          </p:nvSpPr>
          <p:spPr>
            <a:xfrm rot="1857600">
              <a:off x="6453000" y="1896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9593000">
              <a:off x="6453360" y="190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892160" y="428148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81360" y="5218200"/>
            <a:ext cx="661680" cy="820800"/>
          </a:xfrm>
          <a:custGeom>
            <a:avLst/>
            <a:gdLst/>
            <a:ahLst/>
            <a:rect l="l" t="t" r="r" b="b"/>
            <a:pathLst>
              <a:path w="417" h="517">
                <a:moveTo>
                  <a:pt x="0" y="354"/>
                </a:moveTo>
                <a:lnTo>
                  <a:pt x="14" y="0"/>
                </a:lnTo>
                <a:lnTo>
                  <a:pt x="393" y="157"/>
                </a:lnTo>
                <a:lnTo>
                  <a:pt x="417" y="517"/>
                </a:lnTo>
                <a:lnTo>
                  <a:pt x="0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7760" y="5829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8068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89280" y="4229280"/>
            <a:ext cx="66024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84240" y="5180040"/>
            <a:ext cx="668520" cy="887400"/>
          </a:xfrm>
          <a:custGeom>
            <a:avLst/>
            <a:gdLst/>
            <a:ahLst/>
            <a:rect l="l" t="t" r="r" b="b"/>
            <a:pathLst>
              <a:path w="421" h="559">
                <a:moveTo>
                  <a:pt x="421" y="559"/>
                </a:moveTo>
                <a:lnTo>
                  <a:pt x="0" y="373"/>
                </a:ln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13560" y="4278240"/>
            <a:ext cx="71424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00640" y="4781520"/>
            <a:ext cx="1238400" cy="932040"/>
          </a:xfrm>
          <a:custGeom>
            <a:avLst/>
            <a:gdLst/>
            <a:ahLst/>
            <a:rect l="l" t="t" r="r" b="b"/>
            <a:pathLst>
              <a:path w="780" h="587">
                <a:moveTo>
                  <a:pt x="257" y="240"/>
                </a:moveTo>
                <a:lnTo>
                  <a:pt x="261" y="587"/>
                </a:lnTo>
                <a:lnTo>
                  <a:pt x="18" y="498"/>
                </a:lnTo>
                <a:lnTo>
                  <a:pt x="0" y="36"/>
                </a:lnTo>
                <a:lnTo>
                  <a:pt x="438" y="0"/>
                </a:lnTo>
                <a:lnTo>
                  <a:pt x="780" y="258"/>
                </a:lnTo>
                <a:lnTo>
                  <a:pt x="666" y="432"/>
                </a:lnTo>
                <a:lnTo>
                  <a:pt x="257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5442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9056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20040" y="422604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11760" y="5154480"/>
            <a:ext cx="665280" cy="64152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5920" y="3639960"/>
            <a:ext cx="11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10840" y="363528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458400" y="5281920"/>
            <a:ext cx="344880" cy="262080"/>
            <a:chOff x="6458400" y="5281920"/>
            <a:chExt cx="344880" cy="262080"/>
          </a:xfrm>
        </p:grpSpPr>
        <p:sp>
          <p:nvSpPr>
            <p:cNvPr id="329" name=""/>
            <p:cNvSpPr/>
            <p:nvPr/>
          </p:nvSpPr>
          <p:spPr>
            <a:xfrm rot="1857600">
              <a:off x="6451200" y="5368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9593000">
              <a:off x="6451560" y="53780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948200" y="4251240"/>
            <a:ext cx="1003320" cy="1490760"/>
          </a:xfrm>
          <a:custGeom>
            <a:avLst/>
            <a:gdLst/>
            <a:ahLst/>
            <a:rect l="l" t="t" r="r" b="b"/>
            <a:pathLst>
              <a:path w="632" h="939">
                <a:moveTo>
                  <a:pt x="632" y="780"/>
                </a:moveTo>
                <a:lnTo>
                  <a:pt x="211" y="592"/>
                </a:lnTo>
                <a:lnTo>
                  <a:pt x="215" y="939"/>
                </a:lnTo>
                <a:lnTo>
                  <a:pt x="0" y="0"/>
                </a:lnTo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84800" y="4268880"/>
            <a:ext cx="646200" cy="2128680"/>
          </a:xfrm>
          <a:custGeom>
            <a:avLst/>
            <a:gdLst/>
            <a:ahLst/>
            <a:rect l="l" t="t" r="r" b="b"/>
            <a:pathLst>
              <a:path w="407" h="1341">
                <a:moveTo>
                  <a:pt x="16" y="1341"/>
                </a:moveTo>
                <a:lnTo>
                  <a:pt x="0" y="371"/>
                </a:lnTo>
                <a:lnTo>
                  <a:pt x="407" y="0"/>
                </a:lnTo>
                <a:lnTo>
                  <a:pt x="130" y="942"/>
                </a:lnTo>
                <a:lnTo>
                  <a:pt x="16" y="134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46480" y="4537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4160" y="4238640"/>
            <a:ext cx="648000" cy="2197080"/>
          </a:xfrm>
          <a:custGeom>
            <a:avLst/>
            <a:gdLst/>
            <a:ahLst/>
            <a:rect l="l" t="t" r="r" b="b"/>
            <a:pathLst>
              <a:path w="408" h="1384">
                <a:moveTo>
                  <a:pt x="2" y="1384"/>
                </a:moveTo>
                <a:lnTo>
                  <a:pt x="0" y="408"/>
                </a:lnTo>
                <a:lnTo>
                  <a:pt x="408" y="0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86240" y="5183280"/>
            <a:ext cx="665280" cy="64116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89480" y="4238640"/>
            <a:ext cx="647640" cy="2185920"/>
          </a:xfrm>
          <a:custGeom>
            <a:avLst/>
            <a:gdLst/>
            <a:ahLst/>
            <a:rect l="l" t="t" r="r" b="b"/>
            <a:pathLst>
              <a:path w="408" h="1377">
                <a:moveTo>
                  <a:pt x="408" y="0"/>
                </a:moveTo>
                <a:lnTo>
                  <a:pt x="0" y="1377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41720" y="4238640"/>
            <a:ext cx="1016280" cy="1523880"/>
          </a:xfrm>
          <a:custGeom>
            <a:avLst/>
            <a:gdLst/>
            <a:ahLst/>
            <a:rect l="l" t="t" r="r" b="b"/>
            <a:pathLst>
              <a:path w="640" h="960">
                <a:moveTo>
                  <a:pt x="216" y="960"/>
                </a:moveTo>
                <a:lnTo>
                  <a:pt x="0" y="0"/>
                </a:lnTo>
                <a:lnTo>
                  <a:pt x="640" y="792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3880" y="4824360"/>
            <a:ext cx="338040" cy="486000"/>
          </a:xfrm>
          <a:custGeom>
            <a:avLst/>
            <a:gdLst/>
            <a:ahLst/>
            <a:rect l="l" t="t" r="r" b="b"/>
            <a:pathLst>
              <a:path w="213" h="306">
                <a:moveTo>
                  <a:pt x="6" y="216"/>
                </a:moveTo>
                <a:lnTo>
                  <a:pt x="0" y="51"/>
                </a:lnTo>
                <a:lnTo>
                  <a:pt x="51" y="0"/>
                </a:lnTo>
                <a:lnTo>
                  <a:pt x="213" y="201"/>
                </a:lnTo>
                <a:lnTo>
                  <a:pt x="180" y="306"/>
                </a:lnTo>
                <a:lnTo>
                  <a:pt x="27" y="228"/>
                </a:lnTo>
              </a:path>
            </a:pathLst>
          </a:custGeom>
          <a:noFill/>
          <a:ln w="19080">
            <a:solidFill>
              <a:srgbClr val="ff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13280" y="4143240"/>
            <a:ext cx="1090800" cy="2347920"/>
          </a:xfrm>
          <a:custGeom>
            <a:avLst/>
            <a:gdLst/>
            <a:ahLst/>
            <a:rect l="l" t="t" r="r" b="b"/>
            <a:pathLst>
              <a:path w="687" h="1479">
                <a:moveTo>
                  <a:pt x="228" y="1479"/>
                </a:moveTo>
                <a:lnTo>
                  <a:pt x="213" y="1038"/>
                </a:lnTo>
                <a:lnTo>
                  <a:pt x="114" y="612"/>
                </a:lnTo>
                <a:lnTo>
                  <a:pt x="0" y="30"/>
                </a:lnTo>
                <a:lnTo>
                  <a:pt x="303" y="375"/>
                </a:lnTo>
                <a:lnTo>
                  <a:pt x="675" y="0"/>
                </a:lnTo>
                <a:lnTo>
                  <a:pt x="504" y="621"/>
                </a:lnTo>
                <a:lnTo>
                  <a:pt x="687" y="879"/>
                </a:lnTo>
                <a:lnTo>
                  <a:pt x="453" y="786"/>
                </a:lnTo>
                <a:lnTo>
                  <a:pt x="252" y="1461"/>
                </a:lnTo>
              </a:path>
            </a:pathLst>
          </a:custGeom>
          <a:noFill/>
          <a:ln w="1908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65320" y="4591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5480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5040" y="5535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3:42:34Z</dcterms:modified>
  <cp:revision>390</cp:revision>
  <dc:subject/>
  <dc:title>Slide 1</dc:title>
</cp:coreProperties>
</file>