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uffer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7680" y="2000160"/>
            <a:ext cx="990720" cy="1257480"/>
          </a:xfrm>
          <a:custGeom>
            <a:avLst/>
            <a:gdLst/>
            <a:ahLst/>
            <a:rect l="l" t="t" r="r" b="b"/>
            <a:pathLst>
              <a:path w="624" h="792">
                <a:moveTo>
                  <a:pt x="0" y="0"/>
                </a:moveTo>
                <a:lnTo>
                  <a:pt x="204" y="0"/>
                </a:lnTo>
                <a:lnTo>
                  <a:pt x="198" y="600"/>
                </a:lnTo>
                <a:lnTo>
                  <a:pt x="624" y="600"/>
                </a:lnTo>
                <a:lnTo>
                  <a:pt x="624" y="792"/>
                </a:lnTo>
                <a:lnTo>
                  <a:pt x="0" y="788"/>
                </a:lnTo>
                <a:lnTo>
                  <a:pt x="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700280"/>
            <a:ext cx="1982880" cy="1579320"/>
          </a:xfrm>
          <a:custGeom>
            <a:avLst/>
            <a:gdLst/>
            <a:ahLst/>
            <a:rect l="l" t="t" r="r" b="b"/>
            <a:pathLst>
              <a:path w="1249" h="995">
                <a:moveTo>
                  <a:pt x="217" y="0"/>
                </a:moveTo>
                <a:lnTo>
                  <a:pt x="1249" y="798"/>
                </a:lnTo>
                <a:lnTo>
                  <a:pt x="0" y="995"/>
                </a:lnTo>
                <a:lnTo>
                  <a:pt x="21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4440" y="5140440"/>
            <a:ext cx="1650960" cy="1565280"/>
          </a:xfrm>
          <a:custGeom>
            <a:avLst/>
            <a:gdLst/>
            <a:ahLst/>
            <a:rect l="l" t="t" r="r" b="b"/>
            <a:pathLst>
              <a:path w="1040" h="986">
                <a:moveTo>
                  <a:pt x="624" y="0"/>
                </a:moveTo>
                <a:lnTo>
                  <a:pt x="620" y="398"/>
                </a:lnTo>
                <a:lnTo>
                  <a:pt x="1040" y="404"/>
                </a:lnTo>
                <a:lnTo>
                  <a:pt x="0" y="986"/>
                </a:lnTo>
                <a:lnTo>
                  <a:pt x="62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60800" y="5149800"/>
            <a:ext cx="1325880" cy="1557360"/>
          </a:xfrm>
          <a:custGeom>
            <a:avLst/>
            <a:gdLst/>
            <a:ahLst/>
            <a:rect l="l" t="t" r="r" b="b"/>
            <a:pathLst>
              <a:path w="835" h="981">
                <a:moveTo>
                  <a:pt x="1" y="8"/>
                </a:moveTo>
                <a:lnTo>
                  <a:pt x="831" y="0"/>
                </a:lnTo>
                <a:lnTo>
                  <a:pt x="835" y="200"/>
                </a:lnTo>
                <a:lnTo>
                  <a:pt x="619" y="392"/>
                </a:lnTo>
                <a:lnTo>
                  <a:pt x="415" y="198"/>
                </a:lnTo>
                <a:lnTo>
                  <a:pt x="409" y="788"/>
                </a:lnTo>
                <a:lnTo>
                  <a:pt x="619" y="578"/>
                </a:lnTo>
                <a:lnTo>
                  <a:pt x="823" y="770"/>
                </a:lnTo>
                <a:lnTo>
                  <a:pt x="825" y="974"/>
                </a:lnTo>
                <a:lnTo>
                  <a:pt x="0" y="981"/>
                </a:lnTo>
                <a:lnTo>
                  <a:pt x="1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36480" y="1699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56880" y="17604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02200" y="3641760"/>
            <a:ext cx="137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ind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06240" y="3657600"/>
            <a:ext cx="19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concave_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4760" y="142920"/>
            <a:ext cx="1054080" cy="3111480"/>
          </a:xfrm>
          <a:custGeom>
            <a:avLst/>
            <a:gdLst/>
            <a:ahLst/>
            <a:rect l="l" t="t" r="r" b="b"/>
            <a:pathLst>
              <a:path w="664" h="1960">
                <a:moveTo>
                  <a:pt x="122" y="982"/>
                </a:moveTo>
                <a:lnTo>
                  <a:pt x="0" y="1092"/>
                </a:lnTo>
                <a:lnTo>
                  <a:pt x="334" y="0"/>
                </a:lnTo>
                <a:lnTo>
                  <a:pt x="664" y="1092"/>
                </a:lnTo>
                <a:lnTo>
                  <a:pt x="532" y="978"/>
                </a:lnTo>
                <a:lnTo>
                  <a:pt x="538" y="1956"/>
                </a:lnTo>
                <a:lnTo>
                  <a:pt x="124" y="1960"/>
                </a:lnTo>
                <a:lnTo>
                  <a:pt x="122" y="98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508640"/>
            <a:ext cx="2306520" cy="2208240"/>
          </a:xfrm>
          <a:custGeom>
            <a:avLst/>
            <a:gdLst/>
            <a:ahLst/>
            <a:rect l="l" t="t" r="r" b="b"/>
            <a:pathLst>
              <a:path w="1453" h="1391">
                <a:moveTo>
                  <a:pt x="1" y="18"/>
                </a:moveTo>
                <a:lnTo>
                  <a:pt x="1447" y="0"/>
                </a:lnTo>
                <a:lnTo>
                  <a:pt x="1447" y="600"/>
                </a:lnTo>
                <a:lnTo>
                  <a:pt x="823" y="600"/>
                </a:lnTo>
                <a:lnTo>
                  <a:pt x="835" y="804"/>
                </a:lnTo>
                <a:lnTo>
                  <a:pt x="1453" y="804"/>
                </a:lnTo>
                <a:lnTo>
                  <a:pt x="1447" y="1386"/>
                </a:lnTo>
                <a:lnTo>
                  <a:pt x="0" y="1391"/>
                </a:lnTo>
                <a:lnTo>
                  <a:pt x="1" y="810"/>
                </a:lnTo>
                <a:lnTo>
                  <a:pt x="625" y="798"/>
                </a:lnTo>
                <a:lnTo>
                  <a:pt x="631" y="606"/>
                </a:lnTo>
                <a:lnTo>
                  <a:pt x="1" y="606"/>
                </a:lnTo>
                <a:lnTo>
                  <a:pt x="1" y="1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4518000"/>
            <a:ext cx="2662200" cy="2184480"/>
          </a:xfrm>
          <a:custGeom>
            <a:avLst/>
            <a:gdLst/>
            <a:ahLst/>
            <a:rect l="l" t="t" r="r" b="b"/>
            <a:pathLst>
              <a:path w="1677" h="1376">
                <a:moveTo>
                  <a:pt x="1" y="2"/>
                </a:moveTo>
                <a:lnTo>
                  <a:pt x="1675" y="0"/>
                </a:lnTo>
                <a:lnTo>
                  <a:pt x="1673" y="584"/>
                </a:lnTo>
                <a:lnTo>
                  <a:pt x="1267" y="588"/>
                </a:lnTo>
                <a:lnTo>
                  <a:pt x="1263" y="782"/>
                </a:lnTo>
                <a:lnTo>
                  <a:pt x="1675" y="780"/>
                </a:lnTo>
                <a:lnTo>
                  <a:pt x="1677" y="1372"/>
                </a:lnTo>
                <a:lnTo>
                  <a:pt x="1465" y="1376"/>
                </a:lnTo>
                <a:lnTo>
                  <a:pt x="1465" y="982"/>
                </a:lnTo>
                <a:lnTo>
                  <a:pt x="1045" y="980"/>
                </a:lnTo>
                <a:lnTo>
                  <a:pt x="1051" y="402"/>
                </a:lnTo>
                <a:lnTo>
                  <a:pt x="1471" y="402"/>
                </a:lnTo>
                <a:lnTo>
                  <a:pt x="1473" y="196"/>
                </a:lnTo>
                <a:lnTo>
                  <a:pt x="223" y="192"/>
                </a:lnTo>
                <a:lnTo>
                  <a:pt x="223" y="398"/>
                </a:lnTo>
                <a:lnTo>
                  <a:pt x="845" y="398"/>
                </a:lnTo>
                <a:lnTo>
                  <a:pt x="843" y="986"/>
                </a:lnTo>
                <a:lnTo>
                  <a:pt x="219" y="988"/>
                </a:lnTo>
                <a:lnTo>
                  <a:pt x="217" y="1182"/>
                </a:lnTo>
                <a:lnTo>
                  <a:pt x="1267" y="1170"/>
                </a:lnTo>
                <a:lnTo>
                  <a:pt x="1263" y="1376"/>
                </a:lnTo>
                <a:lnTo>
                  <a:pt x="0" y="1375"/>
                </a:lnTo>
                <a:lnTo>
                  <a:pt x="1" y="794"/>
                </a:lnTo>
                <a:lnTo>
                  <a:pt x="641" y="788"/>
                </a:lnTo>
                <a:lnTo>
                  <a:pt x="643" y="588"/>
                </a:lnTo>
                <a:lnTo>
                  <a:pt x="1" y="590"/>
                </a:lnTo>
                <a:lnTo>
                  <a:pt x="1" y="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1480" y="16992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29240" y="176040"/>
            <a:ext cx="179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donut_si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2200" y="3641760"/>
            <a:ext cx="72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sn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45600" y="3683160"/>
            <a:ext cx="134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tipped_a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7920" y="476280"/>
            <a:ext cx="2638440" cy="2774880"/>
          </a:xfrm>
          <a:custGeom>
            <a:avLst/>
            <a:gdLst/>
            <a:ahLst/>
            <a:rect l="l" t="t" r="r" b="b"/>
            <a:pathLst>
              <a:path w="1662" h="1748">
                <a:moveTo>
                  <a:pt x="202" y="1548"/>
                </a:moveTo>
                <a:lnTo>
                  <a:pt x="810" y="1548"/>
                </a:lnTo>
                <a:lnTo>
                  <a:pt x="210" y="960"/>
                </a:lnTo>
                <a:lnTo>
                  <a:pt x="210" y="1554"/>
                </a:lnTo>
                <a:lnTo>
                  <a:pt x="210" y="1712"/>
                </a:lnTo>
                <a:lnTo>
                  <a:pt x="0" y="1748"/>
                </a:lnTo>
                <a:lnTo>
                  <a:pt x="204" y="0"/>
                </a:lnTo>
                <a:lnTo>
                  <a:pt x="1662" y="1560"/>
                </a:lnTo>
                <a:lnTo>
                  <a:pt x="210" y="1712"/>
                </a:lnTo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1680" y="781200"/>
            <a:ext cx="657000" cy="2473200"/>
          </a:xfrm>
          <a:custGeom>
            <a:avLst/>
            <a:gdLst/>
            <a:ahLst/>
            <a:rect l="l" t="t" r="r" b="b"/>
            <a:pathLst>
              <a:path w="414" h="1558">
                <a:moveTo>
                  <a:pt x="0" y="978"/>
                </a:moveTo>
                <a:lnTo>
                  <a:pt x="372" y="966"/>
                </a:lnTo>
                <a:lnTo>
                  <a:pt x="408" y="0"/>
                </a:lnTo>
                <a:lnTo>
                  <a:pt x="414" y="1554"/>
                </a:lnTo>
                <a:lnTo>
                  <a:pt x="0" y="1558"/>
                </a:lnTo>
                <a:lnTo>
                  <a:pt x="0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6560" y="16992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ch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20840" y="765000"/>
            <a:ext cx="703440" cy="2473560"/>
          </a:xfrm>
          <a:custGeom>
            <a:avLst/>
            <a:gdLst/>
            <a:ahLst/>
            <a:rect l="l" t="t" r="r" b="b"/>
            <a:pathLst>
              <a:path w="443" h="1558">
                <a:moveTo>
                  <a:pt x="0" y="978"/>
                </a:moveTo>
                <a:lnTo>
                  <a:pt x="443" y="976"/>
                </a:lnTo>
                <a:lnTo>
                  <a:pt x="408" y="0"/>
                </a:lnTo>
                <a:lnTo>
                  <a:pt x="414" y="1554"/>
                </a:lnTo>
                <a:lnTo>
                  <a:pt x="0" y="1558"/>
                </a:lnTo>
                <a:lnTo>
                  <a:pt x="0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60720" y="1484280"/>
            <a:ext cx="1440000" cy="1747440"/>
          </a:xfrm>
          <a:prstGeom prst="rect">
            <a:avLst/>
          </a:prstGeom>
          <a:solidFill>
            <a:srgbClr val="ffff66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Arial"/>
              </a:rPr>
              <a:t>Note that this second polygon is not valid and will cause an artefact while buffering (round inside-out corner around the tower). If dissolved is called before, with the automatically reversing option, it is kept and buffered correc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76880" y="139680"/>
            <a:ext cx="2647800" cy="3124080"/>
          </a:xfrm>
          <a:custGeom>
            <a:avLst/>
            <a:gdLst/>
            <a:ahLst/>
            <a:rect l="l" t="t" r="r" b="b"/>
            <a:pathLst>
              <a:path w="1668" h="1968">
                <a:moveTo>
                  <a:pt x="0" y="1968"/>
                </a:moveTo>
                <a:lnTo>
                  <a:pt x="4" y="8"/>
                </a:lnTo>
                <a:lnTo>
                  <a:pt x="1668" y="0"/>
                </a:lnTo>
                <a:lnTo>
                  <a:pt x="1668" y="1960"/>
                </a:lnTo>
                <a:lnTo>
                  <a:pt x="820" y="1964"/>
                </a:lnTo>
                <a:lnTo>
                  <a:pt x="819" y="1757"/>
                </a:lnTo>
                <a:lnTo>
                  <a:pt x="818" y="872"/>
                </a:lnTo>
                <a:lnTo>
                  <a:pt x="732" y="776"/>
                </a:lnTo>
                <a:lnTo>
                  <a:pt x="838" y="668"/>
                </a:lnTo>
                <a:lnTo>
                  <a:pt x="948" y="779"/>
                </a:lnTo>
                <a:lnTo>
                  <a:pt x="850" y="874"/>
                </a:lnTo>
                <a:lnTo>
                  <a:pt x="852" y="1936"/>
                </a:lnTo>
                <a:lnTo>
                  <a:pt x="912" y="1932"/>
                </a:lnTo>
                <a:lnTo>
                  <a:pt x="904" y="976"/>
                </a:lnTo>
                <a:lnTo>
                  <a:pt x="1048" y="1372"/>
                </a:lnTo>
                <a:lnTo>
                  <a:pt x="1452" y="974"/>
                </a:lnTo>
                <a:lnTo>
                  <a:pt x="1038" y="770"/>
                </a:lnTo>
                <a:lnTo>
                  <a:pt x="1488" y="578"/>
                </a:lnTo>
                <a:lnTo>
                  <a:pt x="1056" y="182"/>
                </a:lnTo>
                <a:lnTo>
                  <a:pt x="834" y="590"/>
                </a:lnTo>
                <a:lnTo>
                  <a:pt x="624" y="170"/>
                </a:lnTo>
                <a:lnTo>
                  <a:pt x="216" y="584"/>
                </a:lnTo>
                <a:lnTo>
                  <a:pt x="624" y="770"/>
                </a:lnTo>
                <a:lnTo>
                  <a:pt x="204" y="986"/>
                </a:lnTo>
                <a:lnTo>
                  <a:pt x="624" y="1380"/>
                </a:lnTo>
                <a:lnTo>
                  <a:pt x="772" y="980"/>
                </a:lnTo>
                <a:lnTo>
                  <a:pt x="764" y="1964"/>
                </a:lnTo>
                <a:lnTo>
                  <a:pt x="0" y="19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25000" y="176040"/>
            <a:ext cx="82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2360" y="32655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0000"/>
                </a:solidFill>
                <a:latin typeface="Arial"/>
              </a:rPr>
              <a:t>5.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60840" y="325296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0000"/>
                </a:solidFill>
                <a:latin typeface="Arial"/>
              </a:rPr>
              <a:t>4.7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200" y="4208400"/>
            <a:ext cx="2635200" cy="1592280"/>
          </a:xfrm>
          <a:custGeom>
            <a:avLst/>
            <a:gdLst/>
            <a:ahLst/>
            <a:rect l="l" t="t" r="r" b="b"/>
            <a:pathLst>
              <a:path w="1660" h="1003">
                <a:moveTo>
                  <a:pt x="964" y="392"/>
                </a:moveTo>
                <a:lnTo>
                  <a:pt x="1660" y="11"/>
                </a:lnTo>
                <a:lnTo>
                  <a:pt x="1656" y="995"/>
                </a:lnTo>
                <a:lnTo>
                  <a:pt x="0" y="1003"/>
                </a:lnTo>
                <a:lnTo>
                  <a:pt x="0" y="19"/>
                </a:lnTo>
                <a:lnTo>
                  <a:pt x="124" y="408"/>
                </a:lnTo>
                <a:lnTo>
                  <a:pt x="860" y="0"/>
                </a:lnTo>
                <a:lnTo>
                  <a:pt x="964" y="39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05200" y="3645000"/>
            <a:ext cx="48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s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4521240"/>
            <a:ext cx="2635200" cy="1579680"/>
          </a:xfrm>
          <a:custGeom>
            <a:avLst/>
            <a:gdLst/>
            <a:ahLst/>
            <a:rect l="l" t="t" r="r" b="b"/>
            <a:pathLst>
              <a:path w="1660" h="995">
                <a:moveTo>
                  <a:pt x="1458" y="8"/>
                </a:moveTo>
                <a:lnTo>
                  <a:pt x="1660" y="3"/>
                </a:lnTo>
                <a:lnTo>
                  <a:pt x="1656" y="987"/>
                </a:lnTo>
                <a:lnTo>
                  <a:pt x="0" y="995"/>
                </a:lnTo>
                <a:lnTo>
                  <a:pt x="0" y="11"/>
                </a:lnTo>
                <a:lnTo>
                  <a:pt x="186" y="0"/>
                </a:lnTo>
                <a:lnTo>
                  <a:pt x="410" y="392"/>
                </a:lnTo>
                <a:lnTo>
                  <a:pt x="810" y="616"/>
                </a:lnTo>
                <a:lnTo>
                  <a:pt x="1242" y="376"/>
                </a:lnTo>
                <a:lnTo>
                  <a:pt x="1458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53960" y="36241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b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04-11T07:48:38Z</dcterms:modified>
  <cp:revision>403</cp:revision>
  <dc:subject/>
  <dc:title>Slide 1</dc:title>
</cp:coreProperties>
</file>